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79E1-0C45-4ACE-B1C0-B7F15C1D9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44CE-723F-4E2E-A399-D92C05D3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D38209-CA2D-4C7D-84BB-8A3D6D2B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04CA62-D3EF-4566-AB9D-E851E97F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CA4A5D-6110-4597-8B1E-5A3BA117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8FD57F-3146-44CB-8A18-2322AA48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C20F5D-AE05-4472-B320-18BAC20F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4695C9-4863-4166-B0D6-2DFBBC81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C45E39-F819-40BD-BC5F-78AA777A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7607F9-22D9-48B4-AEEA-DE34330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BCEC25-3FDB-4513-8636-185B746A6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2E36F-B2F8-4DF8-A45D-A201E24AE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4FBC-FC0B-4E6E-B66A-59F499AB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7C990-220E-4F28-B9D3-76EC66BE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4888F-ECFC-4705-8C3F-2830D2F8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A23DC-80D1-467C-880F-98EC13E0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DD093-0912-449E-AB93-29A6E6AD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3AC85-CABB-452F-B2F9-2FB36DD0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95C47-67CB-4DD8-B2D7-B3FAF43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B2B5-8310-4041-A3E7-E41CE996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F4FD-B60B-4CFA-9D19-79325F27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DED97-8380-413A-AA11-77094853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85F3F-3AAE-455A-BAEA-F952287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1606-3F98-4346-B250-E5CB409CE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63F60-9B9D-431C-8C39-08BFEAB69D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9399A-C575-4107-8DF5-55CC649EBF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35FED-8D24-4DE6-B11E-F79CD7D1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81E804-8039-4630-BB95-AB155476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75C80-D0DC-45AA-8307-F90DB8F7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155BA6-8EC9-4FB5-9975-CD535A62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D4BA04-6FF0-4F51-A3B4-38C34D99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7847C-984A-408E-A29F-C6BAE466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43EE8-3DB4-4F62-B799-FA2924C1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279D0-904F-441C-AE96-4E57A24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E3F6B-94FC-40F4-BECC-B086C6CA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99BA3C-7747-44B9-83EE-3B085129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0ED149-644C-4007-8EF1-54487B71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9283A-ED68-414A-8156-6FEB3948F6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ABED0-1D13-4FDE-837C-1EBDCFE080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BDA49D-FFA9-424A-B909-2EB1DADB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83306-20A0-449E-90C2-8B3F4F0E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50AB4-A19E-4258-B50A-00E76056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1A82F-3C2C-4E9F-BB7A-AF032085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E8F03-F098-4F28-BF03-3F91F12B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B5EF3-FF19-4866-A198-0B579158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5D1A7-FBFD-4866-BA54-04CAB1CE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7D289-71F8-4107-A55F-DECC706A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6C1AC-6446-4CDD-8B78-FCE4F1DC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8CF7C-BD5C-4830-87CB-962ED89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1E791-ED4A-4FD1-A2A2-62FDFC61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3E97A-4459-4FC8-83A0-06B8B73E69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57EBA-C547-445C-916B-BCCDF9E34F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B1550-0D2D-43C6-9114-C60BA44C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FFF48-9BF0-47B7-B217-4E32E5B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E1F70-5D11-4966-B923-6E481FC5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449A3-9DC6-4B7B-885D-E6BC264D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2E6B6-0065-4B80-97DF-FF7B71F1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6C107-945D-4AA3-AE6C-D808451D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C4D45-E48C-48CD-B749-95AC5506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014AA-E65A-423C-8395-F312CB8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E2AB8-22FC-4BF9-AE76-0A032499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12A9F-2B4C-4C94-BF54-5B7EC467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48435-264E-4D07-9CBE-616BD8E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150CF-D14D-4F49-B79D-2BCB68715A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DDA2C-FE3F-46E2-A17F-6DCD4B89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69E1B-BB78-4E15-AAC1-CC107667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9B849-0F8E-4F50-B602-DCCFA896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A3C48-6C25-45EE-894B-D33B01C6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5CF71-56C5-4510-AB87-94A7B40E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56F5B-7B37-4A0F-8E1D-1027438C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56717-56D7-4FF1-86E3-5B4969B7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D97C9-18B1-46BB-AEE4-CDE37C95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6E281-DBD9-45D9-A024-00DB171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6FD30-F4B1-433A-B0CF-3DC212B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94512-7795-464F-91DF-BC4DF604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8A57F-BA8C-4714-B70A-06F105D2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FE31A-78DF-4577-BDAF-72A59928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04A80-1ECF-40AF-8DA9-8690C47A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BFEF3-F6AE-4193-B9A7-C62C79A4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0A39C-4AB0-4FF5-8371-5B65CD42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E4B04-BA89-4AC5-9065-52927696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B5EB2-76D9-49F1-AF16-AF4CAA72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AB90E-7DF1-430D-9413-BB2243CE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B4E2C-C9CC-42F2-B153-A6BC4A31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1535D-122C-48E7-A23C-A1912C7F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D7AF4-B277-461A-8823-053BB8CE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018B6-1FA4-4648-904C-E5FC8EC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EE3CD-29DF-43E6-B478-482DD9D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0AE99-C0B1-4363-A253-E7F1860A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25214-D7A4-45F3-BA1E-BF60E92E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88A50-90DC-4D5F-8BA4-EE109FDF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87565-4217-4135-B1F1-B4D8F97C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ACBA2-7863-4455-9375-D32A91DF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B0C1B-C3E2-4F58-AF7E-CCE187B8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754F2-90C7-45EF-8008-D1EA8537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5AC80-42D0-48F7-9E6E-4A2F2294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EF91A-F38F-4FD4-8982-FF2E5C5B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FD849-8AFF-4C96-87FF-050BD2AC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BD2E1-5182-4DE6-8E50-68C8E5EA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C8437-9E38-490D-B581-3C6E4B0F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29306-0D82-442E-8590-42447CA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E0011-E5D0-45C2-9D32-B0911AC9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767ED-5B88-4775-9F00-61C0C9E4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EBFED-6C16-48A0-8EF2-8430E59D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A60C6-A6F4-4246-9B81-5632046C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86782-1FE4-4ED6-9B1A-1CA54454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C28C4-49E2-4A6C-8CE1-829E2617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F77EF-8445-4344-9197-7986149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FFAA6-E410-47A1-9C70-E3967AE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36198-6392-438B-B917-6FA9F645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5770F-93EA-4461-BC9F-E9D80BAC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DFE4-49A6-4996-80B7-11377B4F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89AB5-EEC1-490D-BD6B-69B4F10C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EAF80-E4CB-4923-8A93-DBB7C63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CB993-B8FC-43AF-BB3C-F20E1617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9EAA0-EED9-4E2A-BDF6-8CA4910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40FFE-E5C7-47D0-9F3F-D7ACB281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2AC31-3C97-4FD3-BBD9-D672963D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8BB3D-4058-4F70-82DA-ACA63C91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E5CD0-7C67-4247-A2A6-865471C4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B7FE7-4857-4B2F-81AD-8DE0653D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C4CAB9-636D-45A0-A31D-FD8EF075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15197-9BC1-4D15-9522-492F387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9EB6F-86F7-4F37-A871-857D0B7F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C287D-76B9-4CE7-B567-767A32EE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9D4D6-5E2C-40E1-9A00-54251E4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83BB2-68B0-44F3-97E1-82A8B21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F05D2-7438-434C-B715-036DED0B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C61D7-2C55-45A1-8976-B40FDFF8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6470A-DA39-4D00-85F3-B01D1B3B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83F18-8C3F-408C-AF60-200825F8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1380C-B674-4646-8278-D5E89A00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1F9A5-0383-47EB-A63A-6F114690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BDDA5-5A66-426F-95BD-8C98DADF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B0853-19F8-4214-8079-B06BB8BD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00BAC-ADCB-4E71-B507-428B5355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EDA53-5A29-492C-8F76-C70EA772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E6EF0-CF39-46BA-B69C-6261468D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4382E-EE63-4228-A937-6BFE229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12E26-8222-44E5-A375-72FF9D22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AD3CE-2687-4056-A2FD-1FBD7145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753EB-E7F8-4DBA-B7C7-F6E452F5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78FB6-8A83-4F34-BE7A-BB645A4D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17C09-955B-4184-87CF-65D8291E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AA67F-EE91-445E-9EC6-1E17CD2E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BD559-2B14-43B7-836E-E03FED52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A9B4F-986F-471F-ABCC-8A133E12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B5F98-F3AA-41A6-B32D-0A049FD4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532FE-E533-4F55-A3EC-86A6A7AD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9BEC9-DF78-42A6-81C7-714184D1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01764-F94B-4F4F-9D9B-54972F69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AAEE1-11D4-4CDD-B071-A1271C7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C90A9-6BD0-46CD-A53C-EDB0DB3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F22D8-4AD1-4A7F-BB5C-854598A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3E4CF-12A3-4947-91D0-8C11542A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DCB99-8082-43F1-9D16-AC25FF4F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B895B-22DA-4197-A379-23C79C33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FDF54-8D3F-4B2F-9091-1FC336FD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181A2-6C89-4242-9D8A-3C6B7F2E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A46FF-9C86-42F0-9434-558DD46E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E9E8C-3568-4468-8F96-F5FC2B19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8D0B9-67E2-444D-9AFC-9CED5F50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08AA2-0404-4679-B046-7FC4D6D0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3E143-E1C5-433B-87E9-0A7D69EC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EA224-2F9B-44CE-A029-13E9A16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C1C92-BA4A-463A-8939-4C2289CB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4DB49-CA83-43EF-8AD2-5F01997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B052A-6EDC-4C8A-809B-8532C65597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2EDB7-24EC-4019-B446-69EAF4EA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4C25A-4A88-473A-A7DE-671CA397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27AB3-B9D6-44E0-9100-D21DFD13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A159F-9833-40EF-BE4E-096CBA1F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16ED2-727F-4E2E-8E4F-C63B6E9D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AC460-36A4-46CC-BD2F-C3440F73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87DF9-DA22-40B7-9256-D09041E1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BDC4F-3F92-475C-A0AE-B048A5AA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01A4A-EB0C-444C-AB76-8F7870E3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A43E9-0C02-4110-97BF-0C34AA61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E7A34-4280-4F5A-B13B-10BD911B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FCBAD-C6AF-4520-A664-777BA778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D9925-131B-4C54-AF82-1B80B6E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0BE92-56B3-445C-A025-78D3B61F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6CC5F-7C63-4926-9624-DC2EEC1C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2025D-D52B-4E99-B5FD-E08EEC60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53D25-F1F3-4A99-AABF-5EAA1880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7AB3A-D335-4FE0-8DBF-9BB9740B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BCFFF-1812-42A9-A176-2B201DE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8EBD0-2A43-4600-B6BE-FABC8A82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967C4-CDBE-4672-B33E-CFD14FBE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F67B7F-8B20-4E89-A7BB-A76B33AD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84C92C-A5CA-443C-84FE-1E22633E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AD74C-95F7-4E00-BD0A-262C524A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E34EE8-F9B7-473F-89AB-DCAB3EB8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18E277-3FB3-47C3-B761-3AF2123C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7DA93-10E1-4A03-8786-5861C3E1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D50D4-869E-4E7D-BE23-B88C568B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0E051-A520-433C-8C24-FFA026FD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699288-E4C0-49D9-B84C-41584920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184473-A24A-4E27-A3F7-6560763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2A854D-C586-498E-9EAD-45A8869E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93EE2-AE61-4FC4-A9D8-CE3F95FB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AC2FC-6A64-422D-893A-C26028C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C74F5-AFB0-4454-B95A-E97FFDB7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A2CC9-9F63-4616-A6C4-4C2810B9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9B5EE-6150-495F-BCF1-6868314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8C3BD-09EC-4E97-8A90-18DD18AC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4F204-5508-420F-B66F-05A61E1D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C81D6-03DD-4D00-98DD-CD50E07D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54CFC9-15F1-4C47-A689-1318D357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3159B-5ECC-4E59-A964-E7839272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38F91-3F84-4E07-9642-D90258FE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E542-8F15-41FB-98C8-0982D147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481E4-213E-4C94-B1ED-2CDDB459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98EA7-787C-4630-8F79-A3052576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51B66-118D-4630-BD1C-530AAF72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C02A5-BE13-4ED8-AEE8-493C41B7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2FE8C-02CF-44E3-AD99-B5D86C46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05D04-B9A5-497B-BA8B-90B541A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522C3-CB57-414B-B79B-C1A9FB8A8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92F9-659A-4FC2-96CB-881BEEA8A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AAFC-9747-4D58-8C79-D4D0DDC6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4FE0-5CB5-4C6D-A1BA-3DE32D4D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94BE-5B26-44F5-B7A4-518DB2DE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C56E-3975-4188-98AC-22C47D5F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CBF1-BE15-49A0-8C59-C6014F6B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30EA-095A-4887-851C-FC82E9AA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DB68-0859-4317-8CC8-8987EEC3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E497-3CA0-485C-A268-069A72DE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F1E4C-2B75-4C6A-A671-CB646715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0BF48-D37B-43DA-BDEE-9331C2F1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7928-E3E4-4FD3-AF89-C879C45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7390-E742-4EAF-8B0D-46250AB5F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F1EA7-F89C-438F-A53A-DE04683604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1996-79FD-4005-8553-416D76D3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57089-BFF5-4DE3-84AF-719C7B6A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B4B56-84B9-4AEF-B94B-1A04A9E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440DC-15BA-454E-9604-B15653F4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524B6-0956-4E70-8D79-53F578DD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E44B6-39D2-4E90-9717-17ACFAC6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EF747-4363-4DE1-B8E5-2819BB5C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194EA-D4F3-4CA1-9A1F-A371394B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AE433-9431-4E6A-8743-02DDFBE3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54EA9-564B-4EC1-A484-32266233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92B72-C5FD-41B0-82A6-5033C6F7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A0E1-74D9-4ECA-89B6-2907C6A6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5505A-BA75-40E2-9B77-D7A6CAE5D1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9AB90D-7D23-4CA1-A657-E53536DF9E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0C3F45-E8C6-49F9-8C20-BEB13658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13A434-D55B-4920-9F35-92C386B3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227960-859C-4448-85C1-C9EAC94C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ACF007-AF2C-44F2-ADD2-D82B444A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9B5F7-F833-4215-914E-7A1EAEA8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AE1D9C-7FB0-4D27-B859-44702766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EE181-ABC6-4ECE-AFE3-0AD7B3D8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AE6E93-3772-4278-8D45-C99BC271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F172-8E17-44A9-89FD-1DA04C81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702847-6FAF-4DA5-B3E2-B556D699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6B50D3-343A-4692-B2B3-C23D4198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51A43A-D792-479D-8846-9B861C1DD6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FC5E0-1734-4399-9952-939CBCCED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BBDE5-727C-4F35-8A9C-8554B2EB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658B-599B-4F0C-9FF1-6D625C56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49791-98C7-4AA5-854A-CADF12F2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BEFA-8FE2-4879-89FB-E35F1133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4B64-679F-432B-AEEB-3C5B3287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4DADC-4121-42CD-8C7A-EA6D594E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66DD-9A0C-4D0A-B466-FFF1D70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8D434-A9E5-4997-9B9B-833EF0E1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D8A27-0CD8-452B-B6A0-7903233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725CA-8CDD-4DA0-A2A0-5101A173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B7C06-08B1-40BB-A647-1644953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5B9E8-6D19-4C02-A7C9-2F5589C2E7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9F656-9DC4-484F-84D0-8D720B88E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3F3E6-B59A-46AE-8A98-29DB8FD3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5C5A3-D040-4547-AA20-57A2F997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DC1AA-76FE-46BE-8147-5AAA0B54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9D70F-2076-4D52-B527-6EB8BA16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B5A6-387B-4502-B3A3-0DFE3A44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64DE1-EE1F-40A6-8279-21CC3B58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A8D3A-42C3-4498-8C20-30143745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49043-509D-4B40-AE37-8F11B674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E502A-52F1-488F-99F1-00DCF0E9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83BD1-D3EE-497A-B32C-759FEBDF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7FBE6-E41E-47AB-AE99-9F661AC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6FF48-D6C7-4E9D-A845-5A27812DF9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2A7A3F-A9CD-47CC-BD2B-DAFF56EC55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7E2B0-A359-4994-9BA6-F8F0B309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55943-AA1A-4CDB-86C7-7E8359BC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77AA-B7D0-438E-8632-609E856F9E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DD1-4FD0-4A8C-8A53-A6B1E3DD2FF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8638-028B-4A14-B142-A97A2F8322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C830-BBB1-4A4E-8DA4-C182152D26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869-61CF-42BE-BC56-19212F2427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05CF-FE85-4F00-A028-22B2A3FDB89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0FB8-59BA-4D5E-AA2E-0095A87D279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3BEF-53A1-4937-AB7E-DD5DE19940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79B7-F371-4D00-994C-9E41F9210C9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40E5-8312-4AD3-8F21-6218E512743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DBF0-291B-486B-AFE0-35A3BD04036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13C6-0414-4BE1-B9A8-1E728C684E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F269-3900-4008-AEDB-94E6FE4CE9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3B0A-DF7D-49E9-81B3-70954F62C7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7C47-8881-4E19-9189-D5DCABBA8F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60AF-24BE-4E9F-9BF5-7F89699FE9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B38-7503-4E4F-B508-CAEB2362314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EFEC-4136-421A-8790-13DD249B457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06E5-BA17-4607-825B-EC33027B42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A084-95ED-439D-B4D4-FCC81611ED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D81C-7263-4B8F-914E-59E679D475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EB7-3A8F-4746-B595-42D257B795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A7CD-CBAE-4D4F-BF83-DB92FCC966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00FE-C5AA-4045-A184-3E14CCB0374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8.png"/><Relationship Id="rId40" Type="http://schemas.openxmlformats.org/officeDocument/2006/relationships/image" Target="../media/image18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18.png"/><Relationship Id="rId47" Type="http://schemas.openxmlformats.org/officeDocument/2006/relationships/image" Target="../media/image18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18.png"/><Relationship Id="rId51" Type="http://schemas.openxmlformats.org/officeDocument/2006/relationships/image" Target="../media/image18.png"/><Relationship Id="rId52" Type="http://schemas.openxmlformats.org/officeDocument/2006/relationships/image" Target="../media/image18.png"/><Relationship Id="rId53" Type="http://schemas.openxmlformats.org/officeDocument/2006/relationships/image" Target="../media/image18.png"/><Relationship Id="rId54" Type="http://schemas.openxmlformats.org/officeDocument/2006/relationships/image" Target="../media/image18.png"/><Relationship Id="rId55" Type="http://schemas.openxmlformats.org/officeDocument/2006/relationships/image" Target="../media/image18.png"/><Relationship Id="rId56" Type="http://schemas.openxmlformats.org/officeDocument/2006/relationships/image" Target="../media/image18.png"/><Relationship Id="rId57" Type="http://schemas.openxmlformats.org/officeDocument/2006/relationships/image" Target="../media/image18.png"/><Relationship Id="rId58" Type="http://schemas.openxmlformats.org/officeDocument/2006/relationships/image" Target="../media/image18.png"/><Relationship Id="rId59" Type="http://schemas.openxmlformats.org/officeDocument/2006/relationships/image" Target="../media/image18.png"/><Relationship Id="rId60" Type="http://schemas.openxmlformats.org/officeDocument/2006/relationships/image" Target="../media/image18.png"/><Relationship Id="rId61" Type="http://schemas.openxmlformats.org/officeDocument/2006/relationships/image" Target="../media/image18.png"/><Relationship Id="rId62" Type="http://schemas.openxmlformats.org/officeDocument/2006/relationships/image" Target="../media/image18.png"/><Relationship Id="rId63" Type="http://schemas.openxmlformats.org/officeDocument/2006/relationships/image" Target="../media/image18.png"/><Relationship Id="rId64" Type="http://schemas.openxmlformats.org/officeDocument/2006/relationships/image" Target="../media/image18.png"/><Relationship Id="rId65" Type="http://schemas.openxmlformats.org/officeDocument/2006/relationships/image" Target="../media/image18.png"/><Relationship Id="rId66" Type="http://schemas.openxmlformats.org/officeDocument/2006/relationships/image" Target="../media/image18.png"/><Relationship Id="rId67" Type="http://schemas.openxmlformats.org/officeDocument/2006/relationships/image" Target="../media/image18.png"/><Relationship Id="rId68" Type="http://schemas.openxmlformats.org/officeDocument/2006/relationships/image" Target="../media/image18.png"/><Relationship Id="rId69" Type="http://schemas.openxmlformats.org/officeDocument/2006/relationships/image" Target="../media/image18.png"/><Relationship Id="rId70" Type="http://schemas.openxmlformats.org/officeDocument/2006/relationships/image" Target="../media/image18.png"/><Relationship Id="rId71" Type="http://schemas.openxmlformats.org/officeDocument/2006/relationships/image" Target="../media/image18.png"/><Relationship Id="rId72" Type="http://schemas.openxmlformats.org/officeDocument/2006/relationships/image" Target="../media/image18.png"/><Relationship Id="rId7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28600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8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 口 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5365800" cy="527040"/>
            <a:chOff x="-50760" y="87480"/>
            <a:chExt cx="5365800" cy="527040"/>
          </a:xfrm>
        </p:grpSpPr>
        <p:pic>
          <p:nvPicPr>
            <p:cNvPr id="999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217080" y="87480"/>
              <a:ext cx="50979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717840" cy="274320"/>
              <a:chOff x="-50760" y="182520"/>
              <a:chExt cx="717840" cy="274320"/>
            </a:xfrm>
          </p:grpSpPr>
          <p:sp>
            <p:nvSpPr>
              <p:cNvPr id="1001" name="椭圆 35"/>
              <p:cNvSpPr/>
              <p:nvPr/>
            </p:nvSpPr>
            <p:spPr>
              <a:xfrm rot="16200000">
                <a:off x="232920" y="334440"/>
                <a:ext cx="1069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424800" y="265680"/>
                <a:ext cx="242280" cy="7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37"/>
              <p:cNvSpPr/>
              <p:nvPr/>
            </p:nvSpPr>
            <p:spPr>
              <a:xfrm rot="16200000">
                <a:off x="232920" y="198000"/>
                <a:ext cx="106920" cy="13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00" y="191880"/>
                <a:ext cx="242280" cy="7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276120"/>
                <a:ext cx="63972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57760"/>
                <a:ext cx="63972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0880"/>
                <a:ext cx="63972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639720" cy="65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1639800" y="712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创设情境，引入新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2" descr="D:\我的文档-桌面-收藏夹\桌面\QQ截图20150228164711.png"/>
          <p:cNvPicPr/>
          <p:nvPr/>
        </p:nvPicPr>
        <p:blipFill>
          <a:blip r:embed="rId8"/>
          <a:srcRect l="2969" t="0" r="0" b="37180"/>
          <a:stretch/>
        </p:blipFill>
        <p:spPr>
          <a:xfrm>
            <a:off x="642960" y="1111320"/>
            <a:ext cx="7701120" cy="23572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2" descr="D:\我的文档-桌面-收藏夹\桌面\QQ截图20150228164711.png"/>
          <p:cNvPicPr/>
          <p:nvPr/>
        </p:nvPicPr>
        <p:blipFill>
          <a:blip r:embed="rId9"/>
          <a:srcRect l="2969" t="64934" r="51129" b="12236"/>
          <a:stretch/>
        </p:blipFill>
        <p:spPr>
          <a:xfrm>
            <a:off x="642960" y="3951360"/>
            <a:ext cx="3643200" cy="8571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2" descr="D:\我的文档-桌面-收藏夹\桌面\QQ截图20150228164711.png"/>
          <p:cNvPicPr/>
          <p:nvPr/>
        </p:nvPicPr>
        <p:blipFill>
          <a:blip r:embed="rId10"/>
          <a:srcRect l="2969" t="87777" r="52028" b="0"/>
          <a:stretch/>
        </p:blipFill>
        <p:spPr>
          <a:xfrm>
            <a:off x="4786200" y="4308480"/>
            <a:ext cx="3571920" cy="45864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51"/>
          <p:cNvSpPr/>
          <p:nvPr/>
        </p:nvSpPr>
        <p:spPr>
          <a:xfrm>
            <a:off x="1500120" y="1593720"/>
            <a:ext cx="92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>
            <a:off x="3500280" y="1593720"/>
            <a:ext cx="78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51"/>
          <p:cNvSpPr/>
          <p:nvPr/>
        </p:nvSpPr>
        <p:spPr>
          <a:xfrm>
            <a:off x="5500800" y="1593720"/>
            <a:ext cx="9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51"/>
          <p:cNvSpPr/>
          <p:nvPr/>
        </p:nvSpPr>
        <p:spPr>
          <a:xfrm>
            <a:off x="7429680" y="1593720"/>
            <a:ext cx="104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51"/>
          <p:cNvSpPr/>
          <p:nvPr/>
        </p:nvSpPr>
        <p:spPr>
          <a:xfrm>
            <a:off x="1571760" y="2031840"/>
            <a:ext cx="92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51"/>
          <p:cNvSpPr/>
          <p:nvPr/>
        </p:nvSpPr>
        <p:spPr>
          <a:xfrm>
            <a:off x="3571920" y="2031840"/>
            <a:ext cx="71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51"/>
          <p:cNvSpPr/>
          <p:nvPr/>
        </p:nvSpPr>
        <p:spPr>
          <a:xfrm>
            <a:off x="5572080" y="2031840"/>
            <a:ext cx="92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7500960" y="203184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1"/>
          <p:cNvSpPr/>
          <p:nvPr/>
        </p:nvSpPr>
        <p:spPr>
          <a:xfrm>
            <a:off x="2000160" y="2544840"/>
            <a:ext cx="92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51"/>
          <p:cNvSpPr/>
          <p:nvPr/>
        </p:nvSpPr>
        <p:spPr>
          <a:xfrm>
            <a:off x="4000680" y="254484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1"/>
          <p:cNvSpPr/>
          <p:nvPr/>
        </p:nvSpPr>
        <p:spPr>
          <a:xfrm>
            <a:off x="5994360" y="2535120"/>
            <a:ext cx="7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1"/>
          <p:cNvSpPr/>
          <p:nvPr/>
        </p:nvSpPr>
        <p:spPr>
          <a:xfrm>
            <a:off x="7929720" y="2544840"/>
            <a:ext cx="838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51"/>
          <p:cNvSpPr/>
          <p:nvPr/>
        </p:nvSpPr>
        <p:spPr>
          <a:xfrm>
            <a:off x="2000160" y="3022560"/>
            <a:ext cx="92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51"/>
          <p:cNvSpPr/>
          <p:nvPr/>
        </p:nvSpPr>
        <p:spPr>
          <a:xfrm>
            <a:off x="4000680" y="302256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51"/>
          <p:cNvSpPr/>
          <p:nvPr/>
        </p:nvSpPr>
        <p:spPr>
          <a:xfrm>
            <a:off x="5929200" y="3022560"/>
            <a:ext cx="86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51"/>
          <p:cNvSpPr/>
          <p:nvPr/>
        </p:nvSpPr>
        <p:spPr>
          <a:xfrm>
            <a:off x="7929720" y="3022560"/>
            <a:ext cx="922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51"/>
          <p:cNvSpPr/>
          <p:nvPr/>
        </p:nvSpPr>
        <p:spPr>
          <a:xfrm>
            <a:off x="1643040" y="4951440"/>
            <a:ext cx="15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×4=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51"/>
          <p:cNvSpPr/>
          <p:nvPr/>
        </p:nvSpPr>
        <p:spPr>
          <a:xfrm>
            <a:off x="5857920" y="4951440"/>
            <a:ext cx="15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×5=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组合 2"/>
          <p:cNvGrpSpPr/>
          <p:nvPr/>
        </p:nvGrpSpPr>
        <p:grpSpPr>
          <a:xfrm>
            <a:off x="-95400" y="142920"/>
            <a:ext cx="5524560" cy="527040"/>
            <a:chOff x="-95400" y="142920"/>
            <a:chExt cx="5524560" cy="527040"/>
          </a:xfrm>
        </p:grpSpPr>
        <p:pic>
          <p:nvPicPr>
            <p:cNvPr id="103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181080" y="142920"/>
              <a:ext cx="524808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3" name="组合 4"/>
            <p:cNvGrpSpPr/>
            <p:nvPr/>
          </p:nvGrpSpPr>
          <p:grpSpPr>
            <a:xfrm>
              <a:off x="-95400" y="237960"/>
              <a:ext cx="739440" cy="274320"/>
              <a:chOff x="-95400" y="237960"/>
              <a:chExt cx="739440" cy="274320"/>
            </a:xfrm>
          </p:grpSpPr>
          <p:sp>
            <p:nvSpPr>
              <p:cNvPr id="1034" name="椭圆 35"/>
              <p:cNvSpPr/>
              <p:nvPr/>
            </p:nvSpPr>
            <p:spPr>
              <a:xfrm rot="16200000">
                <a:off x="190440" y="38952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5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400320" y="31896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6" name="椭圆 37"/>
              <p:cNvSpPr/>
              <p:nvPr/>
            </p:nvSpPr>
            <p:spPr>
              <a:xfrm rot="16200000">
                <a:off x="190440" y="252360"/>
                <a:ext cx="106920" cy="13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7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400320" y="24696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-95400" y="329400"/>
                <a:ext cx="6609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-95400" y="311400"/>
                <a:ext cx="6609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-95400" y="255960"/>
                <a:ext cx="6609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-95400" y="237960"/>
                <a:ext cx="660960" cy="6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42" name="Picture 3" descr="D:\我的文档-桌面-收藏夹\桌面\20090113112823516.jpg"/>
          <p:cNvPicPr/>
          <p:nvPr/>
        </p:nvPicPr>
        <p:blipFill>
          <a:blip r:embed="rId8"/>
          <a:stretch/>
        </p:blipFill>
        <p:spPr>
          <a:xfrm>
            <a:off x="7286760" y="4576680"/>
            <a:ext cx="91116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43" name="组合 91"/>
          <p:cNvGrpSpPr/>
          <p:nvPr/>
        </p:nvGrpSpPr>
        <p:grpSpPr>
          <a:xfrm>
            <a:off x="1992240" y="925560"/>
            <a:ext cx="4998960" cy="3786120"/>
            <a:chOff x="1992240" y="925560"/>
            <a:chExt cx="4998960" cy="3786120"/>
          </a:xfrm>
        </p:grpSpPr>
        <p:grpSp>
          <p:nvGrpSpPr>
            <p:cNvPr id="1044" name="组合 27"/>
            <p:cNvGrpSpPr/>
            <p:nvPr/>
          </p:nvGrpSpPr>
          <p:grpSpPr>
            <a:xfrm>
              <a:off x="1992240" y="925560"/>
              <a:ext cx="4998960" cy="992880"/>
              <a:chOff x="1992240" y="925560"/>
              <a:chExt cx="4998960" cy="992880"/>
            </a:xfrm>
          </p:grpSpPr>
          <p:pic>
            <p:nvPicPr>
              <p:cNvPr id="1045" name="Picture 2" descr="D:\我的文档-桌面-收藏夹\桌面\2006424174437572副本.png"/>
              <p:cNvPicPr/>
              <p:nvPr/>
            </p:nvPicPr>
            <p:blipFill>
              <a:blip r:embed="rId9"/>
              <a:stretch/>
            </p:blipFill>
            <p:spPr>
              <a:xfrm>
                <a:off x="199224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Picture 2" descr="D:\我的文档-桌面-收藏夹\桌面\2006424174437572副本.png"/>
              <p:cNvPicPr/>
              <p:nvPr/>
            </p:nvPicPr>
            <p:blipFill>
              <a:blip r:embed="rId10"/>
              <a:stretch/>
            </p:blipFill>
            <p:spPr>
              <a:xfrm>
                <a:off x="258984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2" descr="D:\我的文档-桌面-收藏夹\桌面\2006424174437572副本.png"/>
              <p:cNvPicPr/>
              <p:nvPr/>
            </p:nvPicPr>
            <p:blipFill>
              <a:blip r:embed="rId11"/>
              <a:stretch/>
            </p:blipFill>
            <p:spPr>
              <a:xfrm>
                <a:off x="318780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Picture 2" descr="D:\我的文档-桌面-收藏夹\桌面\2006424174437572副本.png"/>
              <p:cNvPicPr/>
              <p:nvPr/>
            </p:nvPicPr>
            <p:blipFill>
              <a:blip r:embed="rId12"/>
              <a:stretch/>
            </p:blipFill>
            <p:spPr>
              <a:xfrm>
                <a:off x="378576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Picture 2" descr="D:\我的文档-桌面-收藏夹\桌面\2006424174437572副本.png"/>
              <p:cNvPicPr/>
              <p:nvPr/>
            </p:nvPicPr>
            <p:blipFill>
              <a:blip r:embed="rId13"/>
              <a:stretch/>
            </p:blipFill>
            <p:spPr>
              <a:xfrm>
                <a:off x="438336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Picture 2" descr="D:\我的文档-桌面-收藏夹\桌面\2006424174437572副本.png"/>
              <p:cNvPicPr/>
              <p:nvPr/>
            </p:nvPicPr>
            <p:blipFill>
              <a:blip r:embed="rId14"/>
              <a:stretch/>
            </p:blipFill>
            <p:spPr>
              <a:xfrm>
                <a:off x="498132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Picture 2" descr="D:\我的文档-桌面-收藏夹\桌面\2006424174437572副本.png"/>
              <p:cNvPicPr/>
              <p:nvPr/>
            </p:nvPicPr>
            <p:blipFill>
              <a:blip r:embed="rId15"/>
              <a:stretch/>
            </p:blipFill>
            <p:spPr>
              <a:xfrm>
                <a:off x="557928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Picture 2" descr="D:\我的文档-桌面-收藏夹\桌面\2006424174437572副本.png"/>
              <p:cNvPicPr/>
              <p:nvPr/>
            </p:nvPicPr>
            <p:blipFill>
              <a:blip r:embed="rId16"/>
              <a:stretch/>
            </p:blipFill>
            <p:spPr>
              <a:xfrm>
                <a:off x="6177240" y="925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3" name="组合 28"/>
            <p:cNvGrpSpPr/>
            <p:nvPr/>
          </p:nvGrpSpPr>
          <p:grpSpPr>
            <a:xfrm>
              <a:off x="1992240" y="1306440"/>
              <a:ext cx="4998960" cy="992880"/>
              <a:chOff x="1992240" y="1306440"/>
              <a:chExt cx="4998960" cy="992880"/>
            </a:xfrm>
          </p:grpSpPr>
          <p:pic>
            <p:nvPicPr>
              <p:cNvPr id="1054" name="Picture 2" descr="D:\我的文档-桌面-收藏夹\桌面\2006424174437572副本.png"/>
              <p:cNvPicPr/>
              <p:nvPr/>
            </p:nvPicPr>
            <p:blipFill>
              <a:blip r:embed="rId17"/>
              <a:stretch/>
            </p:blipFill>
            <p:spPr>
              <a:xfrm>
                <a:off x="199224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Picture 2" descr="D:\我的文档-桌面-收藏夹\桌面\2006424174437572副本.png"/>
              <p:cNvPicPr/>
              <p:nvPr/>
            </p:nvPicPr>
            <p:blipFill>
              <a:blip r:embed="rId18"/>
              <a:stretch/>
            </p:blipFill>
            <p:spPr>
              <a:xfrm>
                <a:off x="258984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Picture 2" descr="D:\我的文档-桌面-收藏夹\桌面\2006424174437572副本.png"/>
              <p:cNvPicPr/>
              <p:nvPr/>
            </p:nvPicPr>
            <p:blipFill>
              <a:blip r:embed="rId19"/>
              <a:stretch/>
            </p:blipFill>
            <p:spPr>
              <a:xfrm>
                <a:off x="318780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Picture 2" descr="D:\我的文档-桌面-收藏夹\桌面\2006424174437572副本.png"/>
              <p:cNvPicPr/>
              <p:nvPr/>
            </p:nvPicPr>
            <p:blipFill>
              <a:blip r:embed="rId20"/>
              <a:stretch/>
            </p:blipFill>
            <p:spPr>
              <a:xfrm>
                <a:off x="378576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Picture 2" descr="D:\我的文档-桌面-收藏夹\桌面\2006424174437572副本.png"/>
              <p:cNvPicPr/>
              <p:nvPr/>
            </p:nvPicPr>
            <p:blipFill>
              <a:blip r:embed="rId21"/>
              <a:stretch/>
            </p:blipFill>
            <p:spPr>
              <a:xfrm>
                <a:off x="438336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Picture 2" descr="D:\我的文档-桌面-收藏夹\桌面\2006424174437572副本.png"/>
              <p:cNvPicPr/>
              <p:nvPr/>
            </p:nvPicPr>
            <p:blipFill>
              <a:blip r:embed="rId22"/>
              <a:stretch/>
            </p:blipFill>
            <p:spPr>
              <a:xfrm>
                <a:off x="498132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Picture 2" descr="D:\我的文档-桌面-收藏夹\桌面\2006424174437572副本.png"/>
              <p:cNvPicPr/>
              <p:nvPr/>
            </p:nvPicPr>
            <p:blipFill>
              <a:blip r:embed="rId23"/>
              <a:stretch/>
            </p:blipFill>
            <p:spPr>
              <a:xfrm>
                <a:off x="557928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Picture 2" descr="D:\我的文档-桌面-收藏夹\桌面\2006424174437572副本.png"/>
              <p:cNvPicPr/>
              <p:nvPr/>
            </p:nvPicPr>
            <p:blipFill>
              <a:blip r:embed="rId24"/>
              <a:stretch/>
            </p:blipFill>
            <p:spPr>
              <a:xfrm>
                <a:off x="6177240" y="1306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2" name="组合 37"/>
            <p:cNvGrpSpPr/>
            <p:nvPr/>
          </p:nvGrpSpPr>
          <p:grpSpPr>
            <a:xfrm>
              <a:off x="1992240" y="1687320"/>
              <a:ext cx="4998960" cy="992880"/>
              <a:chOff x="1992240" y="1687320"/>
              <a:chExt cx="4998960" cy="992880"/>
            </a:xfrm>
          </p:grpSpPr>
          <p:pic>
            <p:nvPicPr>
              <p:cNvPr id="1063" name="Picture 2" descr="D:\我的文档-桌面-收藏夹\桌面\2006424174437572副本.png"/>
              <p:cNvPicPr/>
              <p:nvPr/>
            </p:nvPicPr>
            <p:blipFill>
              <a:blip r:embed="rId25"/>
              <a:stretch/>
            </p:blipFill>
            <p:spPr>
              <a:xfrm>
                <a:off x="199224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Picture 2" descr="D:\我的文档-桌面-收藏夹\桌面\2006424174437572副本.png"/>
              <p:cNvPicPr/>
              <p:nvPr/>
            </p:nvPicPr>
            <p:blipFill>
              <a:blip r:embed="rId26"/>
              <a:stretch/>
            </p:blipFill>
            <p:spPr>
              <a:xfrm>
                <a:off x="258984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5" name="Picture 2" descr="D:\我的文档-桌面-收藏夹\桌面\2006424174437572副本.png"/>
              <p:cNvPicPr/>
              <p:nvPr/>
            </p:nvPicPr>
            <p:blipFill>
              <a:blip r:embed="rId27"/>
              <a:stretch/>
            </p:blipFill>
            <p:spPr>
              <a:xfrm>
                <a:off x="318780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6" name="Picture 2" descr="D:\我的文档-桌面-收藏夹\桌面\2006424174437572副本.png"/>
              <p:cNvPicPr/>
              <p:nvPr/>
            </p:nvPicPr>
            <p:blipFill>
              <a:blip r:embed="rId28"/>
              <a:stretch/>
            </p:blipFill>
            <p:spPr>
              <a:xfrm>
                <a:off x="378576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Picture 2" descr="D:\我的文档-桌面-收藏夹\桌面\2006424174437572副本.png"/>
              <p:cNvPicPr/>
              <p:nvPr/>
            </p:nvPicPr>
            <p:blipFill>
              <a:blip r:embed="rId29"/>
              <a:stretch/>
            </p:blipFill>
            <p:spPr>
              <a:xfrm>
                <a:off x="438336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Picture 2" descr="D:\我的文档-桌面-收藏夹\桌面\2006424174437572副本.png"/>
              <p:cNvPicPr/>
              <p:nvPr/>
            </p:nvPicPr>
            <p:blipFill>
              <a:blip r:embed="rId30"/>
              <a:stretch/>
            </p:blipFill>
            <p:spPr>
              <a:xfrm>
                <a:off x="498132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Picture 2" descr="D:\我的文档-桌面-收藏夹\桌面\2006424174437572副本.png"/>
              <p:cNvPicPr/>
              <p:nvPr/>
            </p:nvPicPr>
            <p:blipFill>
              <a:blip r:embed="rId31"/>
              <a:stretch/>
            </p:blipFill>
            <p:spPr>
              <a:xfrm>
                <a:off x="557928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Picture 2" descr="D:\我的文档-桌面-收藏夹\桌面\2006424174437572副本.png"/>
              <p:cNvPicPr/>
              <p:nvPr/>
            </p:nvPicPr>
            <p:blipFill>
              <a:blip r:embed="rId32"/>
              <a:stretch/>
            </p:blipFill>
            <p:spPr>
              <a:xfrm>
                <a:off x="6177240" y="1687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1" name="组合 46"/>
            <p:cNvGrpSpPr/>
            <p:nvPr/>
          </p:nvGrpSpPr>
          <p:grpSpPr>
            <a:xfrm>
              <a:off x="1992240" y="2110320"/>
              <a:ext cx="4998960" cy="992880"/>
              <a:chOff x="1992240" y="2110320"/>
              <a:chExt cx="4998960" cy="992880"/>
            </a:xfrm>
          </p:grpSpPr>
          <p:pic>
            <p:nvPicPr>
              <p:cNvPr id="1072" name="Picture 2" descr="D:\我的文档-桌面-收藏夹\桌面\2006424174437572副本.png"/>
              <p:cNvPicPr/>
              <p:nvPr/>
            </p:nvPicPr>
            <p:blipFill>
              <a:blip r:embed="rId33"/>
              <a:stretch/>
            </p:blipFill>
            <p:spPr>
              <a:xfrm>
                <a:off x="199224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Picture 2" descr="D:\我的文档-桌面-收藏夹\桌面\2006424174437572副本.png"/>
              <p:cNvPicPr/>
              <p:nvPr/>
            </p:nvPicPr>
            <p:blipFill>
              <a:blip r:embed="rId34"/>
              <a:stretch/>
            </p:blipFill>
            <p:spPr>
              <a:xfrm>
                <a:off x="258984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4" name="Picture 2" descr="D:\我的文档-桌面-收藏夹\桌面\2006424174437572副本.png"/>
              <p:cNvPicPr/>
              <p:nvPr/>
            </p:nvPicPr>
            <p:blipFill>
              <a:blip r:embed="rId35"/>
              <a:stretch/>
            </p:blipFill>
            <p:spPr>
              <a:xfrm>
                <a:off x="318780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Picture 2" descr="D:\我的文档-桌面-收藏夹\桌面\2006424174437572副本.png"/>
              <p:cNvPicPr/>
              <p:nvPr/>
            </p:nvPicPr>
            <p:blipFill>
              <a:blip r:embed="rId36"/>
              <a:stretch/>
            </p:blipFill>
            <p:spPr>
              <a:xfrm>
                <a:off x="378576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Picture 2" descr="D:\我的文档-桌面-收藏夹\桌面\2006424174437572副本.png"/>
              <p:cNvPicPr/>
              <p:nvPr/>
            </p:nvPicPr>
            <p:blipFill>
              <a:blip r:embed="rId37"/>
              <a:stretch/>
            </p:blipFill>
            <p:spPr>
              <a:xfrm>
                <a:off x="438336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Picture 2" descr="D:\我的文档-桌面-收藏夹\桌面\2006424174437572副本.png"/>
              <p:cNvPicPr/>
              <p:nvPr/>
            </p:nvPicPr>
            <p:blipFill>
              <a:blip r:embed="rId38"/>
              <a:stretch/>
            </p:blipFill>
            <p:spPr>
              <a:xfrm>
                <a:off x="498132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Picture 2" descr="D:\我的文档-桌面-收藏夹\桌面\2006424174437572副本.png"/>
              <p:cNvPicPr/>
              <p:nvPr/>
            </p:nvPicPr>
            <p:blipFill>
              <a:blip r:embed="rId39"/>
              <a:stretch/>
            </p:blipFill>
            <p:spPr>
              <a:xfrm>
                <a:off x="557928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Picture 2" descr="D:\我的文档-桌面-收藏夹\桌面\2006424174437572副本.png"/>
              <p:cNvPicPr/>
              <p:nvPr/>
            </p:nvPicPr>
            <p:blipFill>
              <a:blip r:embed="rId40"/>
              <a:stretch/>
            </p:blipFill>
            <p:spPr>
              <a:xfrm>
                <a:off x="6177240" y="211032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组合 55"/>
            <p:cNvGrpSpPr/>
            <p:nvPr/>
          </p:nvGrpSpPr>
          <p:grpSpPr>
            <a:xfrm>
              <a:off x="1992240" y="2533680"/>
              <a:ext cx="4998960" cy="992880"/>
              <a:chOff x="1992240" y="2533680"/>
              <a:chExt cx="4998960" cy="992880"/>
            </a:xfrm>
          </p:grpSpPr>
          <p:pic>
            <p:nvPicPr>
              <p:cNvPr id="1081" name="Picture 2" descr="D:\我的文档-桌面-收藏夹\桌面\2006424174437572副本.png"/>
              <p:cNvPicPr/>
              <p:nvPr/>
            </p:nvPicPr>
            <p:blipFill>
              <a:blip r:embed="rId41"/>
              <a:stretch/>
            </p:blipFill>
            <p:spPr>
              <a:xfrm>
                <a:off x="199224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Picture 2" descr="D:\我的文档-桌面-收藏夹\桌面\2006424174437572副本.png"/>
              <p:cNvPicPr/>
              <p:nvPr/>
            </p:nvPicPr>
            <p:blipFill>
              <a:blip r:embed="rId42"/>
              <a:stretch/>
            </p:blipFill>
            <p:spPr>
              <a:xfrm>
                <a:off x="258984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Picture 2" descr="D:\我的文档-桌面-收藏夹\桌面\2006424174437572副本.png"/>
              <p:cNvPicPr/>
              <p:nvPr/>
            </p:nvPicPr>
            <p:blipFill>
              <a:blip r:embed="rId43"/>
              <a:stretch/>
            </p:blipFill>
            <p:spPr>
              <a:xfrm>
                <a:off x="318780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Picture 2" descr="D:\我的文档-桌面-收藏夹\桌面\2006424174437572副本.png"/>
              <p:cNvPicPr/>
              <p:nvPr/>
            </p:nvPicPr>
            <p:blipFill>
              <a:blip r:embed="rId44"/>
              <a:stretch/>
            </p:blipFill>
            <p:spPr>
              <a:xfrm>
                <a:off x="378576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Picture 2" descr="D:\我的文档-桌面-收藏夹\桌面\2006424174437572副本.png"/>
              <p:cNvPicPr/>
              <p:nvPr/>
            </p:nvPicPr>
            <p:blipFill>
              <a:blip r:embed="rId45"/>
              <a:stretch/>
            </p:blipFill>
            <p:spPr>
              <a:xfrm>
                <a:off x="438336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Picture 2" descr="D:\我的文档-桌面-收藏夹\桌面\2006424174437572副本.png"/>
              <p:cNvPicPr/>
              <p:nvPr/>
            </p:nvPicPr>
            <p:blipFill>
              <a:blip r:embed="rId46"/>
              <a:stretch/>
            </p:blipFill>
            <p:spPr>
              <a:xfrm>
                <a:off x="498132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Picture 2" descr="D:\我的文档-桌面-收藏夹\桌面\2006424174437572副本.png"/>
              <p:cNvPicPr/>
              <p:nvPr/>
            </p:nvPicPr>
            <p:blipFill>
              <a:blip r:embed="rId47"/>
              <a:stretch/>
            </p:blipFill>
            <p:spPr>
              <a:xfrm>
                <a:off x="557928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Picture 2" descr="D:\我的文档-桌面-收藏夹\桌面\2006424174437572副本.png"/>
              <p:cNvPicPr/>
              <p:nvPr/>
            </p:nvPicPr>
            <p:blipFill>
              <a:blip r:embed="rId48"/>
              <a:stretch/>
            </p:blipFill>
            <p:spPr>
              <a:xfrm>
                <a:off x="6177240" y="253368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9" name="组合 64"/>
            <p:cNvGrpSpPr/>
            <p:nvPr/>
          </p:nvGrpSpPr>
          <p:grpSpPr>
            <a:xfrm>
              <a:off x="1992240" y="2914560"/>
              <a:ext cx="4998960" cy="992880"/>
              <a:chOff x="1992240" y="2914560"/>
              <a:chExt cx="4998960" cy="992880"/>
            </a:xfrm>
          </p:grpSpPr>
          <p:pic>
            <p:nvPicPr>
              <p:cNvPr id="1090" name="Picture 2" descr="D:\我的文档-桌面-收藏夹\桌面\2006424174437572副本.png"/>
              <p:cNvPicPr/>
              <p:nvPr/>
            </p:nvPicPr>
            <p:blipFill>
              <a:blip r:embed="rId49"/>
              <a:stretch/>
            </p:blipFill>
            <p:spPr>
              <a:xfrm>
                <a:off x="199224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Picture 2" descr="D:\我的文档-桌面-收藏夹\桌面\2006424174437572副本.png"/>
              <p:cNvPicPr/>
              <p:nvPr/>
            </p:nvPicPr>
            <p:blipFill>
              <a:blip r:embed="rId50"/>
              <a:stretch/>
            </p:blipFill>
            <p:spPr>
              <a:xfrm>
                <a:off x="258984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Picture 2" descr="D:\我的文档-桌面-收藏夹\桌面\2006424174437572副本.png"/>
              <p:cNvPicPr/>
              <p:nvPr/>
            </p:nvPicPr>
            <p:blipFill>
              <a:blip r:embed="rId51"/>
              <a:stretch/>
            </p:blipFill>
            <p:spPr>
              <a:xfrm>
                <a:off x="318780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Picture 2" descr="D:\我的文档-桌面-收藏夹\桌面\2006424174437572副本.png"/>
              <p:cNvPicPr/>
              <p:nvPr/>
            </p:nvPicPr>
            <p:blipFill>
              <a:blip r:embed="rId52"/>
              <a:stretch/>
            </p:blipFill>
            <p:spPr>
              <a:xfrm>
                <a:off x="378576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Picture 2" descr="D:\我的文档-桌面-收藏夹\桌面\2006424174437572副本.png"/>
              <p:cNvPicPr/>
              <p:nvPr/>
            </p:nvPicPr>
            <p:blipFill>
              <a:blip r:embed="rId53"/>
              <a:stretch/>
            </p:blipFill>
            <p:spPr>
              <a:xfrm>
                <a:off x="438336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Picture 2" descr="D:\我的文档-桌面-收藏夹\桌面\2006424174437572副本.png"/>
              <p:cNvPicPr/>
              <p:nvPr/>
            </p:nvPicPr>
            <p:blipFill>
              <a:blip r:embed="rId54"/>
              <a:stretch/>
            </p:blipFill>
            <p:spPr>
              <a:xfrm>
                <a:off x="498132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Picture 2" descr="D:\我的文档-桌面-收藏夹\桌面\2006424174437572副本.png"/>
              <p:cNvPicPr/>
              <p:nvPr/>
            </p:nvPicPr>
            <p:blipFill>
              <a:blip r:embed="rId55"/>
              <a:stretch/>
            </p:blipFill>
            <p:spPr>
              <a:xfrm>
                <a:off x="557928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Picture 2" descr="D:\我的文档-桌面-收藏夹\桌面\2006424174437572副本.png"/>
              <p:cNvPicPr/>
              <p:nvPr/>
            </p:nvPicPr>
            <p:blipFill>
              <a:blip r:embed="rId56"/>
              <a:stretch/>
            </p:blipFill>
            <p:spPr>
              <a:xfrm>
                <a:off x="6177240" y="291456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8" name="组合 73"/>
            <p:cNvGrpSpPr/>
            <p:nvPr/>
          </p:nvGrpSpPr>
          <p:grpSpPr>
            <a:xfrm>
              <a:off x="1992240" y="3295440"/>
              <a:ext cx="4998960" cy="992880"/>
              <a:chOff x="1992240" y="3295440"/>
              <a:chExt cx="4998960" cy="992880"/>
            </a:xfrm>
          </p:grpSpPr>
          <p:pic>
            <p:nvPicPr>
              <p:cNvPr id="1099" name="Picture 2" descr="D:\我的文档-桌面-收藏夹\桌面\2006424174437572副本.png"/>
              <p:cNvPicPr/>
              <p:nvPr/>
            </p:nvPicPr>
            <p:blipFill>
              <a:blip r:embed="rId57"/>
              <a:stretch/>
            </p:blipFill>
            <p:spPr>
              <a:xfrm>
                <a:off x="199224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Picture 2" descr="D:\我的文档-桌面-收藏夹\桌面\2006424174437572副本.png"/>
              <p:cNvPicPr/>
              <p:nvPr/>
            </p:nvPicPr>
            <p:blipFill>
              <a:blip r:embed="rId58"/>
              <a:stretch/>
            </p:blipFill>
            <p:spPr>
              <a:xfrm>
                <a:off x="258984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Picture 2" descr="D:\我的文档-桌面-收藏夹\桌面\2006424174437572副本.png"/>
              <p:cNvPicPr/>
              <p:nvPr/>
            </p:nvPicPr>
            <p:blipFill>
              <a:blip r:embed="rId59"/>
              <a:stretch/>
            </p:blipFill>
            <p:spPr>
              <a:xfrm>
                <a:off x="318780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Picture 2" descr="D:\我的文档-桌面-收藏夹\桌面\2006424174437572副本.png"/>
              <p:cNvPicPr/>
              <p:nvPr/>
            </p:nvPicPr>
            <p:blipFill>
              <a:blip r:embed="rId60"/>
              <a:stretch/>
            </p:blipFill>
            <p:spPr>
              <a:xfrm>
                <a:off x="378576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Picture 2" descr="D:\我的文档-桌面-收藏夹\桌面\2006424174437572副本.png"/>
              <p:cNvPicPr/>
              <p:nvPr/>
            </p:nvPicPr>
            <p:blipFill>
              <a:blip r:embed="rId61"/>
              <a:stretch/>
            </p:blipFill>
            <p:spPr>
              <a:xfrm>
                <a:off x="438336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Picture 2" descr="D:\我的文档-桌面-收藏夹\桌面\2006424174437572副本.png"/>
              <p:cNvPicPr/>
              <p:nvPr/>
            </p:nvPicPr>
            <p:blipFill>
              <a:blip r:embed="rId62"/>
              <a:stretch/>
            </p:blipFill>
            <p:spPr>
              <a:xfrm>
                <a:off x="498132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Picture 2" descr="D:\我的文档-桌面-收藏夹\桌面\2006424174437572副本.png"/>
              <p:cNvPicPr/>
              <p:nvPr/>
            </p:nvPicPr>
            <p:blipFill>
              <a:blip r:embed="rId63"/>
              <a:stretch/>
            </p:blipFill>
            <p:spPr>
              <a:xfrm>
                <a:off x="557928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Picture 2" descr="D:\我的文档-桌面-收藏夹\桌面\2006424174437572副本.png"/>
              <p:cNvPicPr/>
              <p:nvPr/>
            </p:nvPicPr>
            <p:blipFill>
              <a:blip r:embed="rId64"/>
              <a:stretch/>
            </p:blipFill>
            <p:spPr>
              <a:xfrm>
                <a:off x="6177240" y="329544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7" name="组合 82"/>
            <p:cNvGrpSpPr/>
            <p:nvPr/>
          </p:nvGrpSpPr>
          <p:grpSpPr>
            <a:xfrm>
              <a:off x="1992240" y="3718800"/>
              <a:ext cx="4998960" cy="992880"/>
              <a:chOff x="1992240" y="3718800"/>
              <a:chExt cx="4998960" cy="992880"/>
            </a:xfrm>
          </p:grpSpPr>
          <p:pic>
            <p:nvPicPr>
              <p:cNvPr id="1108" name="Picture 2" descr="D:\我的文档-桌面-收藏夹\桌面\2006424174437572副本.png"/>
              <p:cNvPicPr/>
              <p:nvPr/>
            </p:nvPicPr>
            <p:blipFill>
              <a:blip r:embed="rId65"/>
              <a:stretch/>
            </p:blipFill>
            <p:spPr>
              <a:xfrm>
                <a:off x="199224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Picture 2" descr="D:\我的文档-桌面-收藏夹\桌面\2006424174437572副本.png"/>
              <p:cNvPicPr/>
              <p:nvPr/>
            </p:nvPicPr>
            <p:blipFill>
              <a:blip r:embed="rId66"/>
              <a:stretch/>
            </p:blipFill>
            <p:spPr>
              <a:xfrm>
                <a:off x="258984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2" descr="D:\我的文档-桌面-收藏夹\桌面\2006424174437572副本.png"/>
              <p:cNvPicPr/>
              <p:nvPr/>
            </p:nvPicPr>
            <p:blipFill>
              <a:blip r:embed="rId67"/>
              <a:stretch/>
            </p:blipFill>
            <p:spPr>
              <a:xfrm>
                <a:off x="318780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Picture 2" descr="D:\我的文档-桌面-收藏夹\桌面\2006424174437572副本.png"/>
              <p:cNvPicPr/>
              <p:nvPr/>
            </p:nvPicPr>
            <p:blipFill>
              <a:blip r:embed="rId68"/>
              <a:stretch/>
            </p:blipFill>
            <p:spPr>
              <a:xfrm>
                <a:off x="378576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Picture 2" descr="D:\我的文档-桌面-收藏夹\桌面\2006424174437572副本.png"/>
              <p:cNvPicPr/>
              <p:nvPr/>
            </p:nvPicPr>
            <p:blipFill>
              <a:blip r:embed="rId69"/>
              <a:stretch/>
            </p:blipFill>
            <p:spPr>
              <a:xfrm>
                <a:off x="438336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Picture 2" descr="D:\我的文档-桌面-收藏夹\桌面\2006424174437572副本.png"/>
              <p:cNvPicPr/>
              <p:nvPr/>
            </p:nvPicPr>
            <p:blipFill>
              <a:blip r:embed="rId70"/>
              <a:stretch/>
            </p:blipFill>
            <p:spPr>
              <a:xfrm>
                <a:off x="498132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Picture 2" descr="D:\我的文档-桌面-收藏夹\桌面\2006424174437572副本.png"/>
              <p:cNvPicPr/>
              <p:nvPr/>
            </p:nvPicPr>
            <p:blipFill>
              <a:blip r:embed="rId71"/>
              <a:stretch/>
            </p:blipFill>
            <p:spPr>
              <a:xfrm>
                <a:off x="557928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2" descr="D:\我的文档-桌面-收藏夹\桌面\2006424174437572副本.png"/>
              <p:cNvPicPr/>
              <p:nvPr/>
            </p:nvPicPr>
            <p:blipFill>
              <a:blip r:embed="rId72"/>
              <a:stretch/>
            </p:blipFill>
            <p:spPr>
              <a:xfrm>
                <a:off x="6177240" y="3718800"/>
                <a:ext cx="813960" cy="99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cxnSp>
        <p:nvCxnSpPr>
          <p:cNvPr id="1116" name="直接箭头连接符 93"/>
          <p:cNvCxnSpPr/>
          <p:nvPr/>
        </p:nvCxnSpPr>
        <p:spPr>
          <a:xfrm>
            <a:off x="571680" y="5355720"/>
            <a:ext cx="7858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17" name="组合 102"/>
          <p:cNvGrpSpPr/>
          <p:nvPr/>
        </p:nvGrpSpPr>
        <p:grpSpPr>
          <a:xfrm>
            <a:off x="547560" y="4858920"/>
            <a:ext cx="3873960" cy="1429200"/>
            <a:chOff x="547560" y="4858920"/>
            <a:chExt cx="3873960" cy="1429200"/>
          </a:xfrm>
        </p:grpSpPr>
        <p:sp>
          <p:nvSpPr>
            <p:cNvPr id="1118" name="弧形 96"/>
            <p:cNvSpPr/>
            <p:nvPr/>
          </p:nvSpPr>
          <p:spPr>
            <a:xfrm rot="17807400">
              <a:off x="646200" y="5113080"/>
              <a:ext cx="113652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弧形 97"/>
            <p:cNvSpPr/>
            <p:nvPr/>
          </p:nvSpPr>
          <p:spPr>
            <a:xfrm rot="17807400">
              <a:off x="1519200" y="5113080"/>
              <a:ext cx="113652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弧形 98"/>
            <p:cNvSpPr/>
            <p:nvPr/>
          </p:nvSpPr>
          <p:spPr>
            <a:xfrm rot="17807400">
              <a:off x="2352600" y="5113080"/>
              <a:ext cx="113652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弧形 99"/>
            <p:cNvSpPr/>
            <p:nvPr/>
          </p:nvSpPr>
          <p:spPr>
            <a:xfrm rot="17807400">
              <a:off x="3186360" y="5113080"/>
              <a:ext cx="1136520" cy="92052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组合 103"/>
          <p:cNvGrpSpPr/>
          <p:nvPr/>
        </p:nvGrpSpPr>
        <p:grpSpPr>
          <a:xfrm>
            <a:off x="3936600" y="4858560"/>
            <a:ext cx="3874320" cy="1429560"/>
            <a:chOff x="3936600" y="4858560"/>
            <a:chExt cx="3874320" cy="1429560"/>
          </a:xfrm>
        </p:grpSpPr>
        <p:sp>
          <p:nvSpPr>
            <p:cNvPr id="1123" name="弧形 104"/>
            <p:cNvSpPr/>
            <p:nvPr/>
          </p:nvSpPr>
          <p:spPr>
            <a:xfrm rot="17807400">
              <a:off x="4035240" y="5112720"/>
              <a:ext cx="1136520" cy="92088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弧形 105"/>
            <p:cNvSpPr/>
            <p:nvPr/>
          </p:nvSpPr>
          <p:spPr>
            <a:xfrm rot="17807400">
              <a:off x="4908240" y="5112720"/>
              <a:ext cx="1136520" cy="92088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弧形 106"/>
            <p:cNvSpPr/>
            <p:nvPr/>
          </p:nvSpPr>
          <p:spPr>
            <a:xfrm rot="17807400">
              <a:off x="5742000" y="5112720"/>
              <a:ext cx="1136520" cy="92088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弧形 107"/>
            <p:cNvSpPr/>
            <p:nvPr/>
          </p:nvSpPr>
          <p:spPr>
            <a:xfrm rot="17807400">
              <a:off x="6575400" y="5112720"/>
              <a:ext cx="1136520" cy="920880"/>
            </a:xfrm>
            <a:custGeom>
              <a:avLst/>
              <a:gdLst/>
              <a:ahLst/>
              <a:rect l="l" t="t" r="r" b="b"/>
              <a:pathLst>
                <a:path stroke="0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  <a:lnTo>
                    <a:pt x="712878" y="631223"/>
                  </a:lnTo>
                  <a:close/>
                </a:path>
                <a:path fill="none" w="1425756" h="1262446">
                  <a:moveTo>
                    <a:pt x="712877" y="0"/>
                  </a:moveTo>
                  <a:cubicBezTo>
                    <a:pt x="1106589" y="0"/>
                    <a:pt x="1425755" y="282608"/>
                    <a:pt x="1425755" y="631223"/>
                  </a:cubicBezTo>
                  <a:cubicBezTo>
                    <a:pt x="1425755" y="791989"/>
                    <a:pt x="1357880" y="938717"/>
                    <a:pt x="1246121" y="10501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TextBox 111"/>
          <p:cNvSpPr/>
          <p:nvPr/>
        </p:nvSpPr>
        <p:spPr>
          <a:xfrm>
            <a:off x="714240" y="5433840"/>
            <a:ext cx="22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0    8    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1"/>
          <p:cNvSpPr/>
          <p:nvPr/>
        </p:nvSpPr>
        <p:spPr>
          <a:xfrm>
            <a:off x="2072520" y="142920"/>
            <a:ext cx="18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自主探究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51"/>
          <p:cNvSpPr/>
          <p:nvPr/>
        </p:nvSpPr>
        <p:spPr>
          <a:xfrm>
            <a:off x="3071880" y="5442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1"/>
          <p:cNvSpPr/>
          <p:nvPr/>
        </p:nvSpPr>
        <p:spPr>
          <a:xfrm>
            <a:off x="3929040" y="54421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1"/>
          <p:cNvSpPr/>
          <p:nvPr/>
        </p:nvSpPr>
        <p:spPr>
          <a:xfrm>
            <a:off x="4786200" y="54421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51"/>
          <p:cNvSpPr/>
          <p:nvPr/>
        </p:nvSpPr>
        <p:spPr>
          <a:xfrm>
            <a:off x="5643720" y="5442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51"/>
          <p:cNvSpPr/>
          <p:nvPr/>
        </p:nvSpPr>
        <p:spPr>
          <a:xfrm>
            <a:off x="6500880" y="54421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51"/>
          <p:cNvSpPr/>
          <p:nvPr/>
        </p:nvSpPr>
        <p:spPr>
          <a:xfrm>
            <a:off x="7358040" y="54421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八边形 12"/>
          <p:cNvSpPr/>
          <p:nvPr/>
        </p:nvSpPr>
        <p:spPr>
          <a:xfrm>
            <a:off x="601560" y="100332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圆角矩形 1"/>
          <p:cNvSpPr/>
          <p:nvPr/>
        </p:nvSpPr>
        <p:spPr>
          <a:xfrm>
            <a:off x="3500280" y="785880"/>
            <a:ext cx="2000520" cy="5072040"/>
          </a:xfrm>
          <a:custGeom>
            <a:avLst/>
            <a:gdLst>
              <a:gd name="textAreaLeft" fmla="*/ 97560 w 2000520"/>
              <a:gd name="textAreaRight" fmla="*/ 1902960 w 2000520"/>
              <a:gd name="textAreaTop" fmla="*/ 97560 h 5072040"/>
              <a:gd name="textAreaBottom" fmla="*/ 4974480 h 5072040"/>
            </a:gdLst>
            <a:ahLst/>
            <a:rect l="textAreaLeft" t="textAreaTop" r="textAreaRight" b="textAreaBottom"/>
            <a:pathLst>
              <a:path w="21600" h="54758">
                <a:moveTo>
                  <a:pt x="3600" y="0"/>
                </a:moveTo>
                <a:arcTo wR="3600" hR="3600" stAng="16200000" swAng="-5400000"/>
                <a:lnTo>
                  <a:pt x="0" y="51158"/>
                </a:lnTo>
                <a:arcTo wR="3600" hR="3600" stAng="10800000" swAng="-5400000"/>
                <a:lnTo>
                  <a:pt x="18000" y="54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99"/>
          </a:solidFill>
          <a:ln w="1260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51"/>
          <p:cNvSpPr/>
          <p:nvPr/>
        </p:nvSpPr>
        <p:spPr>
          <a:xfrm>
            <a:off x="2714760" y="2857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51"/>
          <p:cNvSpPr/>
          <p:nvPr/>
        </p:nvSpPr>
        <p:spPr>
          <a:xfrm>
            <a:off x="2714760" y="23144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51"/>
          <p:cNvSpPr/>
          <p:nvPr/>
        </p:nvSpPr>
        <p:spPr>
          <a:xfrm>
            <a:off x="2714760" y="16714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1"/>
          <p:cNvSpPr/>
          <p:nvPr/>
        </p:nvSpPr>
        <p:spPr>
          <a:xfrm>
            <a:off x="4429080" y="167148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51"/>
          <p:cNvSpPr/>
          <p:nvPr/>
        </p:nvSpPr>
        <p:spPr>
          <a:xfrm>
            <a:off x="4286160" y="231444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51"/>
          <p:cNvSpPr/>
          <p:nvPr/>
        </p:nvSpPr>
        <p:spPr>
          <a:xfrm>
            <a:off x="4286160" y="2814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51"/>
          <p:cNvSpPr/>
          <p:nvPr/>
        </p:nvSpPr>
        <p:spPr>
          <a:xfrm>
            <a:off x="2786040" y="10717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78"/>
          <p:cNvGrpSpPr/>
          <p:nvPr/>
        </p:nvGrpSpPr>
        <p:grpSpPr>
          <a:xfrm>
            <a:off x="1857240" y="1643040"/>
            <a:ext cx="5500800" cy="500040"/>
            <a:chOff x="1857240" y="1643040"/>
            <a:chExt cx="5500800" cy="500040"/>
          </a:xfrm>
        </p:grpSpPr>
        <p:sp>
          <p:nvSpPr>
            <p:cNvPr id="1145" name="TextBox 46"/>
            <p:cNvSpPr/>
            <p:nvPr/>
          </p:nvSpPr>
          <p:spPr>
            <a:xfrm>
              <a:off x="3500280" y="164304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二八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Box 44"/>
            <p:cNvSpPr/>
            <p:nvPr/>
          </p:nvSpPr>
          <p:spPr>
            <a:xfrm>
              <a:off x="1857240" y="1643040"/>
              <a:ext cx="157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2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Box 48"/>
            <p:cNvSpPr/>
            <p:nvPr/>
          </p:nvSpPr>
          <p:spPr>
            <a:xfrm>
              <a:off x="5786280" y="1643040"/>
              <a:ext cx="157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2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矩形 13"/>
            <p:cNvSpPr/>
            <p:nvPr/>
          </p:nvSpPr>
          <p:spPr>
            <a:xfrm>
              <a:off x="2643120" y="16430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矩形 14"/>
            <p:cNvSpPr/>
            <p:nvPr/>
          </p:nvSpPr>
          <p:spPr>
            <a:xfrm>
              <a:off x="6572160" y="16430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Rectangle 51"/>
          <p:cNvSpPr/>
          <p:nvPr/>
        </p:nvSpPr>
        <p:spPr>
          <a:xfrm>
            <a:off x="6643800" y="2857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51"/>
          <p:cNvSpPr/>
          <p:nvPr/>
        </p:nvSpPr>
        <p:spPr>
          <a:xfrm>
            <a:off x="6643800" y="23144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51"/>
          <p:cNvSpPr/>
          <p:nvPr/>
        </p:nvSpPr>
        <p:spPr>
          <a:xfrm>
            <a:off x="6643800" y="1714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组合 79"/>
          <p:cNvGrpSpPr/>
          <p:nvPr/>
        </p:nvGrpSpPr>
        <p:grpSpPr>
          <a:xfrm>
            <a:off x="1857240" y="2286000"/>
            <a:ext cx="5286600" cy="500040"/>
            <a:chOff x="1857240" y="2286000"/>
            <a:chExt cx="5286600" cy="500040"/>
          </a:xfrm>
        </p:grpSpPr>
        <p:sp>
          <p:nvSpPr>
            <p:cNvPr id="1154" name="TextBox 31"/>
            <p:cNvSpPr/>
            <p:nvPr/>
          </p:nvSpPr>
          <p:spPr>
            <a:xfrm>
              <a:off x="3500280" y="228600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三八（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Box 34"/>
            <p:cNvSpPr/>
            <p:nvPr/>
          </p:nvSpPr>
          <p:spPr>
            <a:xfrm>
              <a:off x="1857240" y="22860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3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Box 32"/>
            <p:cNvSpPr/>
            <p:nvPr/>
          </p:nvSpPr>
          <p:spPr>
            <a:xfrm>
              <a:off x="5786640" y="230796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3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矩形 22"/>
            <p:cNvSpPr/>
            <p:nvPr/>
          </p:nvSpPr>
          <p:spPr>
            <a:xfrm>
              <a:off x="2643120" y="22860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矩形 23"/>
            <p:cNvSpPr/>
            <p:nvPr/>
          </p:nvSpPr>
          <p:spPr>
            <a:xfrm>
              <a:off x="6572520" y="22860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Rectangle 51"/>
          <p:cNvSpPr/>
          <p:nvPr/>
        </p:nvSpPr>
        <p:spPr>
          <a:xfrm>
            <a:off x="6715080" y="10717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组合 77"/>
          <p:cNvGrpSpPr/>
          <p:nvPr/>
        </p:nvGrpSpPr>
        <p:grpSpPr>
          <a:xfrm>
            <a:off x="1857240" y="1071720"/>
            <a:ext cx="5286600" cy="500040"/>
            <a:chOff x="1857240" y="1071720"/>
            <a:chExt cx="5286600" cy="500040"/>
          </a:xfrm>
        </p:grpSpPr>
        <p:sp>
          <p:nvSpPr>
            <p:cNvPr id="1161" name="TextBox 43"/>
            <p:cNvSpPr/>
            <p:nvPr/>
          </p:nvSpPr>
          <p:spPr>
            <a:xfrm>
              <a:off x="1857240" y="10717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1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Box 45"/>
            <p:cNvSpPr/>
            <p:nvPr/>
          </p:nvSpPr>
          <p:spPr>
            <a:xfrm>
              <a:off x="3500280" y="1143000"/>
              <a:ext cx="157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八得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Box 47"/>
            <p:cNvSpPr/>
            <p:nvPr/>
          </p:nvSpPr>
          <p:spPr>
            <a:xfrm>
              <a:off x="5786640" y="10717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1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矩形 29"/>
            <p:cNvSpPr/>
            <p:nvPr/>
          </p:nvSpPr>
          <p:spPr>
            <a:xfrm>
              <a:off x="2643120" y="107172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矩形 30"/>
            <p:cNvSpPr/>
            <p:nvPr/>
          </p:nvSpPr>
          <p:spPr>
            <a:xfrm>
              <a:off x="6572520" y="107172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组合 80"/>
          <p:cNvGrpSpPr/>
          <p:nvPr/>
        </p:nvGrpSpPr>
        <p:grpSpPr>
          <a:xfrm>
            <a:off x="1857240" y="2786040"/>
            <a:ext cx="5286600" cy="571680"/>
            <a:chOff x="1857240" y="2786040"/>
            <a:chExt cx="5286600" cy="571680"/>
          </a:xfrm>
        </p:grpSpPr>
        <p:sp>
          <p:nvSpPr>
            <p:cNvPr id="1167" name="TextBox 64"/>
            <p:cNvSpPr/>
            <p:nvPr/>
          </p:nvSpPr>
          <p:spPr>
            <a:xfrm>
              <a:off x="3500280" y="278604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四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Box 65"/>
            <p:cNvSpPr/>
            <p:nvPr/>
          </p:nvSpPr>
          <p:spPr>
            <a:xfrm>
              <a:off x="1857240" y="28573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4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矩形 34"/>
            <p:cNvSpPr/>
            <p:nvPr/>
          </p:nvSpPr>
          <p:spPr>
            <a:xfrm>
              <a:off x="2643120" y="285732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矩形 35"/>
            <p:cNvSpPr/>
            <p:nvPr/>
          </p:nvSpPr>
          <p:spPr>
            <a:xfrm>
              <a:off x="6572520" y="285732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TextBox 65"/>
            <p:cNvSpPr/>
            <p:nvPr/>
          </p:nvSpPr>
          <p:spPr>
            <a:xfrm>
              <a:off x="5786640" y="285732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4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Rectangle 51"/>
          <p:cNvSpPr/>
          <p:nvPr/>
        </p:nvSpPr>
        <p:spPr>
          <a:xfrm>
            <a:off x="2714760" y="34290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51"/>
          <p:cNvSpPr/>
          <p:nvPr/>
        </p:nvSpPr>
        <p:spPr>
          <a:xfrm>
            <a:off x="6643800" y="342900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81"/>
          <p:cNvGrpSpPr/>
          <p:nvPr/>
        </p:nvGrpSpPr>
        <p:grpSpPr>
          <a:xfrm>
            <a:off x="1857240" y="3357720"/>
            <a:ext cx="5286600" cy="571320"/>
            <a:chOff x="1857240" y="3357720"/>
            <a:chExt cx="5286600" cy="571320"/>
          </a:xfrm>
        </p:grpSpPr>
        <p:sp>
          <p:nvSpPr>
            <p:cNvPr id="1175" name="TextBox 64"/>
            <p:cNvSpPr/>
            <p:nvPr/>
          </p:nvSpPr>
          <p:spPr>
            <a:xfrm>
              <a:off x="3500280" y="335772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五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TextBox 65"/>
            <p:cNvSpPr/>
            <p:nvPr/>
          </p:nvSpPr>
          <p:spPr>
            <a:xfrm>
              <a:off x="1857240" y="34290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5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矩形 42"/>
            <p:cNvSpPr/>
            <p:nvPr/>
          </p:nvSpPr>
          <p:spPr>
            <a:xfrm>
              <a:off x="2643120" y="34290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矩形 43"/>
            <p:cNvSpPr/>
            <p:nvPr/>
          </p:nvSpPr>
          <p:spPr>
            <a:xfrm>
              <a:off x="6572520" y="342900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Box 65"/>
            <p:cNvSpPr/>
            <p:nvPr/>
          </p:nvSpPr>
          <p:spPr>
            <a:xfrm>
              <a:off x="5786640" y="342900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5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Rectangle 51"/>
          <p:cNvSpPr/>
          <p:nvPr/>
        </p:nvSpPr>
        <p:spPr>
          <a:xfrm>
            <a:off x="2714760" y="4000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51"/>
          <p:cNvSpPr/>
          <p:nvPr/>
        </p:nvSpPr>
        <p:spPr>
          <a:xfrm>
            <a:off x="6643800" y="40006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82"/>
          <p:cNvGrpSpPr/>
          <p:nvPr/>
        </p:nvGrpSpPr>
        <p:grpSpPr>
          <a:xfrm>
            <a:off x="1857240" y="4000680"/>
            <a:ext cx="5286600" cy="500040"/>
            <a:chOff x="1857240" y="4000680"/>
            <a:chExt cx="5286600" cy="500040"/>
          </a:xfrm>
        </p:grpSpPr>
        <p:sp>
          <p:nvSpPr>
            <p:cNvPr id="1183" name="TextBox 64"/>
            <p:cNvSpPr/>
            <p:nvPr/>
          </p:nvSpPr>
          <p:spPr>
            <a:xfrm>
              <a:off x="3500280" y="400068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六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TextBox 65"/>
            <p:cNvSpPr/>
            <p:nvPr/>
          </p:nvSpPr>
          <p:spPr>
            <a:xfrm>
              <a:off x="1857240" y="400068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6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49"/>
            <p:cNvSpPr/>
            <p:nvPr/>
          </p:nvSpPr>
          <p:spPr>
            <a:xfrm>
              <a:off x="2643120" y="40006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50"/>
            <p:cNvSpPr/>
            <p:nvPr/>
          </p:nvSpPr>
          <p:spPr>
            <a:xfrm>
              <a:off x="6572520" y="400068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Box 65"/>
            <p:cNvSpPr/>
            <p:nvPr/>
          </p:nvSpPr>
          <p:spPr>
            <a:xfrm>
              <a:off x="5786640" y="400068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6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Rectangle 51"/>
          <p:cNvSpPr/>
          <p:nvPr/>
        </p:nvSpPr>
        <p:spPr>
          <a:xfrm>
            <a:off x="4429080" y="338616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51"/>
          <p:cNvSpPr/>
          <p:nvPr/>
        </p:nvSpPr>
        <p:spPr>
          <a:xfrm>
            <a:off x="4286160" y="402912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十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51"/>
          <p:cNvSpPr/>
          <p:nvPr/>
        </p:nvSpPr>
        <p:spPr>
          <a:xfrm>
            <a:off x="2714760" y="46432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51"/>
          <p:cNvSpPr/>
          <p:nvPr/>
        </p:nvSpPr>
        <p:spPr>
          <a:xfrm>
            <a:off x="6643800" y="464328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2" name="组合 82"/>
          <p:cNvGrpSpPr/>
          <p:nvPr/>
        </p:nvGrpSpPr>
        <p:grpSpPr>
          <a:xfrm>
            <a:off x="1857240" y="4643280"/>
            <a:ext cx="5286600" cy="500400"/>
            <a:chOff x="1857240" y="4643280"/>
            <a:chExt cx="5286600" cy="500400"/>
          </a:xfrm>
        </p:grpSpPr>
        <p:sp>
          <p:nvSpPr>
            <p:cNvPr id="1193" name="TextBox 64"/>
            <p:cNvSpPr/>
            <p:nvPr/>
          </p:nvSpPr>
          <p:spPr>
            <a:xfrm>
              <a:off x="3500280" y="4643280"/>
              <a:ext cx="214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七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TextBox 65"/>
            <p:cNvSpPr/>
            <p:nvPr/>
          </p:nvSpPr>
          <p:spPr>
            <a:xfrm>
              <a:off x="1857240" y="4643280"/>
              <a:ext cx="128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7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59"/>
            <p:cNvSpPr/>
            <p:nvPr/>
          </p:nvSpPr>
          <p:spPr>
            <a:xfrm>
              <a:off x="2643120" y="464328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60"/>
            <p:cNvSpPr/>
            <p:nvPr/>
          </p:nvSpPr>
          <p:spPr>
            <a:xfrm>
              <a:off x="6572520" y="4643280"/>
              <a:ext cx="571320" cy="5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TextBox 65"/>
            <p:cNvSpPr/>
            <p:nvPr/>
          </p:nvSpPr>
          <p:spPr>
            <a:xfrm>
              <a:off x="5786640" y="4643280"/>
              <a:ext cx="1285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7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Rectangle 51"/>
          <p:cNvSpPr/>
          <p:nvPr/>
        </p:nvSpPr>
        <p:spPr>
          <a:xfrm>
            <a:off x="4286160" y="467208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51"/>
          <p:cNvSpPr/>
          <p:nvPr/>
        </p:nvSpPr>
        <p:spPr>
          <a:xfrm>
            <a:off x="2714760" y="52862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51"/>
          <p:cNvSpPr/>
          <p:nvPr/>
        </p:nvSpPr>
        <p:spPr>
          <a:xfrm>
            <a:off x="6643800" y="52862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组合 82"/>
          <p:cNvGrpSpPr/>
          <p:nvPr/>
        </p:nvGrpSpPr>
        <p:grpSpPr>
          <a:xfrm>
            <a:off x="1857240" y="5286240"/>
            <a:ext cx="5286600" cy="500040"/>
            <a:chOff x="1857240" y="5286240"/>
            <a:chExt cx="5286600" cy="500040"/>
          </a:xfrm>
        </p:grpSpPr>
        <p:sp>
          <p:nvSpPr>
            <p:cNvPr id="1202" name="TextBox 64"/>
            <p:cNvSpPr/>
            <p:nvPr/>
          </p:nvSpPr>
          <p:spPr>
            <a:xfrm>
              <a:off x="3500280" y="5286240"/>
              <a:ext cx="2143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八八（ 　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Box 65"/>
            <p:cNvSpPr/>
            <p:nvPr/>
          </p:nvSpPr>
          <p:spPr>
            <a:xfrm>
              <a:off x="1857240" y="528624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68"/>
            <p:cNvSpPr/>
            <p:nvPr/>
          </p:nvSpPr>
          <p:spPr>
            <a:xfrm>
              <a:off x="2643120" y="52862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69"/>
            <p:cNvSpPr/>
            <p:nvPr/>
          </p:nvSpPr>
          <p:spPr>
            <a:xfrm>
              <a:off x="6572520" y="5286240"/>
              <a:ext cx="57132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Box 65"/>
            <p:cNvSpPr/>
            <p:nvPr/>
          </p:nvSpPr>
          <p:spPr>
            <a:xfrm>
              <a:off x="5786640" y="5286240"/>
              <a:ext cx="12859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×8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Rectangle 51"/>
          <p:cNvSpPr/>
          <p:nvPr/>
        </p:nvSpPr>
        <p:spPr>
          <a:xfrm>
            <a:off x="4286160" y="531504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六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组合 2"/>
          <p:cNvGrpSpPr/>
          <p:nvPr/>
        </p:nvGrpSpPr>
        <p:grpSpPr>
          <a:xfrm>
            <a:off x="20520" y="79200"/>
            <a:ext cx="3481560" cy="527400"/>
            <a:chOff x="20520" y="79200"/>
            <a:chExt cx="3481560" cy="527400"/>
          </a:xfrm>
        </p:grpSpPr>
        <p:pic>
          <p:nvPicPr>
            <p:cNvPr id="1209" name="圆角矩形 44" descr=""/>
            <p:cNvPicPr/>
            <p:nvPr/>
          </p:nvPicPr>
          <p:blipFill>
            <a:blip r:embed="rId1"/>
            <a:stretch/>
          </p:blipFill>
          <p:spPr>
            <a:xfrm>
              <a:off x="183960" y="79200"/>
              <a:ext cx="331812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0" name="组合 4"/>
            <p:cNvGrpSpPr/>
            <p:nvPr/>
          </p:nvGrpSpPr>
          <p:grpSpPr>
            <a:xfrm>
              <a:off x="20520" y="174240"/>
              <a:ext cx="462240" cy="275040"/>
              <a:chOff x="20520" y="174240"/>
              <a:chExt cx="462240" cy="275040"/>
            </a:xfrm>
          </p:grpSpPr>
          <p:sp>
            <p:nvSpPr>
              <p:cNvPr id="1211" name="椭圆 51"/>
              <p:cNvSpPr/>
              <p:nvPr/>
            </p:nvSpPr>
            <p:spPr>
              <a:xfrm rot="16200000">
                <a:off x="269640" y="33732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2" name="椭圆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040" y="295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椭圆 57"/>
              <p:cNvSpPr/>
              <p:nvPr/>
            </p:nvSpPr>
            <p:spPr>
              <a:xfrm rot="16200000">
                <a:off x="269640" y="20844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4" name="椭圆 58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040" y="1879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圆角矩形 6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10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圆角矩形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283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圆角矩形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008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7424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组合 2"/>
          <p:cNvGrpSpPr/>
          <p:nvPr/>
        </p:nvGrpSpPr>
        <p:grpSpPr>
          <a:xfrm>
            <a:off x="20520" y="79200"/>
            <a:ext cx="2922840" cy="527400"/>
            <a:chOff x="20520" y="79200"/>
            <a:chExt cx="2922840" cy="527400"/>
          </a:xfrm>
        </p:grpSpPr>
        <p:pic>
          <p:nvPicPr>
            <p:cNvPr id="12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3360" y="79200"/>
              <a:ext cx="279000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1" name="组合 4"/>
            <p:cNvGrpSpPr/>
            <p:nvPr/>
          </p:nvGrpSpPr>
          <p:grpSpPr>
            <a:xfrm>
              <a:off x="20520" y="174240"/>
              <a:ext cx="386280" cy="274680"/>
              <a:chOff x="20520" y="174240"/>
              <a:chExt cx="386280" cy="274680"/>
            </a:xfrm>
          </p:grpSpPr>
          <p:sp>
            <p:nvSpPr>
              <p:cNvPr id="1222" name="椭圆 35"/>
              <p:cNvSpPr/>
              <p:nvPr/>
            </p:nvSpPr>
            <p:spPr>
              <a:xfrm rot="16200000">
                <a:off x="254160" y="342000"/>
                <a:ext cx="9756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3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320" y="313920"/>
                <a:ext cx="204480" cy="12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4" name="椭圆 37"/>
              <p:cNvSpPr/>
              <p:nvPr/>
            </p:nvSpPr>
            <p:spPr>
              <a:xfrm rot="16200000">
                <a:off x="254160" y="217080"/>
                <a:ext cx="9756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5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2320" y="190080"/>
                <a:ext cx="20448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31560"/>
                <a:ext cx="314640" cy="10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7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300600"/>
                <a:ext cx="314640" cy="10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8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05200"/>
                <a:ext cx="314640" cy="10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74240"/>
                <a:ext cx="314640" cy="10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0" name="Rectangle 64"/>
          <p:cNvSpPr/>
          <p:nvPr/>
        </p:nvSpPr>
        <p:spPr>
          <a:xfrm>
            <a:off x="71280" y="88920"/>
            <a:ext cx="3299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1"/>
          <p:cNvSpPr/>
          <p:nvPr/>
        </p:nvSpPr>
        <p:spPr>
          <a:xfrm>
            <a:off x="138960" y="1073160"/>
            <a:ext cx="52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矩形 4"/>
          <p:cNvSpPr/>
          <p:nvPr/>
        </p:nvSpPr>
        <p:spPr>
          <a:xfrm>
            <a:off x="732600" y="1095480"/>
            <a:ext cx="193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五八（     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矩形 5"/>
          <p:cNvSpPr/>
          <p:nvPr/>
        </p:nvSpPr>
        <p:spPr>
          <a:xfrm>
            <a:off x="3872520" y="1095480"/>
            <a:ext cx="184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二八（    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6612840" y="1095480"/>
            <a:ext cx="201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八八（          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7"/>
          <p:cNvSpPr/>
          <p:nvPr/>
        </p:nvSpPr>
        <p:spPr>
          <a:xfrm>
            <a:off x="689400" y="1930320"/>
            <a:ext cx="222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）八二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矩形 8"/>
          <p:cNvSpPr/>
          <p:nvPr/>
        </p:nvSpPr>
        <p:spPr>
          <a:xfrm>
            <a:off x="3761280" y="1930320"/>
            <a:ext cx="222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）八四十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矩形 9"/>
          <p:cNvSpPr/>
          <p:nvPr/>
        </p:nvSpPr>
        <p:spPr>
          <a:xfrm>
            <a:off x="6761880" y="1930320"/>
            <a:ext cx="222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）八五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1"/>
          <p:cNvSpPr/>
          <p:nvPr/>
        </p:nvSpPr>
        <p:spPr>
          <a:xfrm>
            <a:off x="1496880" y="10954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四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51"/>
          <p:cNvSpPr/>
          <p:nvPr/>
        </p:nvSpPr>
        <p:spPr>
          <a:xfrm>
            <a:off x="4572000" y="1095480"/>
            <a:ext cx="92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十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51"/>
          <p:cNvSpPr/>
          <p:nvPr/>
        </p:nvSpPr>
        <p:spPr>
          <a:xfrm>
            <a:off x="7358040" y="10954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六十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1"/>
          <p:cNvSpPr/>
          <p:nvPr/>
        </p:nvSpPr>
        <p:spPr>
          <a:xfrm>
            <a:off x="857160" y="188136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51"/>
          <p:cNvSpPr/>
          <p:nvPr/>
        </p:nvSpPr>
        <p:spPr>
          <a:xfrm>
            <a:off x="3929040" y="1930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51"/>
          <p:cNvSpPr/>
          <p:nvPr/>
        </p:nvSpPr>
        <p:spPr>
          <a:xfrm>
            <a:off x="6858000" y="1930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1"/>
          <p:cNvSpPr/>
          <p:nvPr/>
        </p:nvSpPr>
        <p:spPr>
          <a:xfrm>
            <a:off x="71280" y="2854440"/>
            <a:ext cx="835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 8×3=      4×8=      8×6=      7×8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1"/>
          <p:cNvSpPr/>
          <p:nvPr/>
        </p:nvSpPr>
        <p:spPr>
          <a:xfrm>
            <a:off x="174600" y="4005360"/>
            <a:ext cx="764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×8=      8×2=      3×8=        8×8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说一说计算每一题用的是哪句口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51"/>
          <p:cNvSpPr/>
          <p:nvPr/>
        </p:nvSpPr>
        <p:spPr>
          <a:xfrm>
            <a:off x="1519200" y="28544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51"/>
          <p:cNvSpPr/>
          <p:nvPr/>
        </p:nvSpPr>
        <p:spPr>
          <a:xfrm>
            <a:off x="3211560" y="2854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51"/>
          <p:cNvSpPr/>
          <p:nvPr/>
        </p:nvSpPr>
        <p:spPr>
          <a:xfrm>
            <a:off x="4929120" y="28386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51"/>
          <p:cNvSpPr/>
          <p:nvPr/>
        </p:nvSpPr>
        <p:spPr>
          <a:xfrm>
            <a:off x="6670800" y="29019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51"/>
          <p:cNvSpPr/>
          <p:nvPr/>
        </p:nvSpPr>
        <p:spPr>
          <a:xfrm>
            <a:off x="1571760" y="40068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51"/>
          <p:cNvSpPr/>
          <p:nvPr/>
        </p:nvSpPr>
        <p:spPr>
          <a:xfrm>
            <a:off x="3211560" y="40068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51"/>
          <p:cNvSpPr/>
          <p:nvPr/>
        </p:nvSpPr>
        <p:spPr>
          <a:xfrm>
            <a:off x="5037120" y="40068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51"/>
          <p:cNvSpPr/>
          <p:nvPr/>
        </p:nvSpPr>
        <p:spPr>
          <a:xfrm>
            <a:off x="7074000" y="40068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51"/>
          <p:cNvSpPr/>
          <p:nvPr/>
        </p:nvSpPr>
        <p:spPr>
          <a:xfrm>
            <a:off x="573120" y="33814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八二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51"/>
          <p:cNvSpPr/>
          <p:nvPr/>
        </p:nvSpPr>
        <p:spPr>
          <a:xfrm>
            <a:off x="2287440" y="33814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八三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51"/>
          <p:cNvSpPr/>
          <p:nvPr/>
        </p:nvSpPr>
        <p:spPr>
          <a:xfrm>
            <a:off x="4002120" y="33814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六八四十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51"/>
          <p:cNvSpPr/>
          <p:nvPr/>
        </p:nvSpPr>
        <p:spPr>
          <a:xfrm>
            <a:off x="5786280" y="33814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七八五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51"/>
          <p:cNvSpPr/>
          <p:nvPr/>
        </p:nvSpPr>
        <p:spPr>
          <a:xfrm>
            <a:off x="644400" y="44355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八四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51"/>
          <p:cNvSpPr/>
          <p:nvPr/>
        </p:nvSpPr>
        <p:spPr>
          <a:xfrm>
            <a:off x="2430360" y="443556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八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51"/>
          <p:cNvSpPr/>
          <p:nvPr/>
        </p:nvSpPr>
        <p:spPr>
          <a:xfrm>
            <a:off x="4216320" y="443556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八二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51"/>
          <p:cNvSpPr/>
          <p:nvPr/>
        </p:nvSpPr>
        <p:spPr>
          <a:xfrm>
            <a:off x="6146640" y="443556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八八六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6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6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3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32"/>
          <p:cNvSpPr/>
          <p:nvPr/>
        </p:nvSpPr>
        <p:spPr>
          <a:xfrm>
            <a:off x="420840" y="933480"/>
            <a:ext cx="844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句，每相邻两句口诀的积相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乘法口诀，除了最后一句，每一句口诀都可以列出两个乘法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412920" y="98244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一、想一想，填一填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1.  8×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读作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表示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相加，还表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个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相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口算这道题的口诀是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五八四十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用七八五十六写两道乘法算式是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=5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7=5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3. 8+8+8+8+8+8=48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改写成乘法算式是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6=48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比比谁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5×8     8×4      8+8    8×8        6×6     6×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在    里填上“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+”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-”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8     8=64      8    8=0     5    8=13    8    3=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组合 2"/>
          <p:cNvGrpSpPr/>
          <p:nvPr/>
        </p:nvGrpSpPr>
        <p:grpSpPr>
          <a:xfrm>
            <a:off x="20520" y="79200"/>
            <a:ext cx="3481560" cy="527400"/>
            <a:chOff x="20520" y="79200"/>
            <a:chExt cx="3481560" cy="527400"/>
          </a:xfrm>
        </p:grpSpPr>
        <p:pic>
          <p:nvPicPr>
            <p:cNvPr id="127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3960" y="79200"/>
              <a:ext cx="331812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8" name="组合 4"/>
            <p:cNvGrpSpPr/>
            <p:nvPr/>
          </p:nvGrpSpPr>
          <p:grpSpPr>
            <a:xfrm>
              <a:off x="20520" y="174240"/>
              <a:ext cx="462240" cy="275040"/>
              <a:chOff x="20520" y="174240"/>
              <a:chExt cx="462240" cy="275040"/>
            </a:xfrm>
          </p:grpSpPr>
          <p:sp>
            <p:nvSpPr>
              <p:cNvPr id="1279" name="椭圆 35"/>
              <p:cNvSpPr/>
              <p:nvPr/>
            </p:nvSpPr>
            <p:spPr>
              <a:xfrm rot="16200000">
                <a:off x="269640" y="33732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0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040" y="295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1" name="椭圆 37"/>
              <p:cNvSpPr/>
              <p:nvPr/>
            </p:nvSpPr>
            <p:spPr>
              <a:xfrm rot="16200000">
                <a:off x="269640" y="20844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2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040" y="1879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10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283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008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6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7424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7" name="Rectangle 64"/>
          <p:cNvSpPr/>
          <p:nvPr/>
        </p:nvSpPr>
        <p:spPr>
          <a:xfrm>
            <a:off x="646200" y="176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Oval 82514"/>
          <p:cNvSpPr/>
          <p:nvPr/>
        </p:nvSpPr>
        <p:spPr>
          <a:xfrm>
            <a:off x="1349280" y="4213080"/>
            <a:ext cx="271440" cy="29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Oval 82514"/>
          <p:cNvSpPr/>
          <p:nvPr/>
        </p:nvSpPr>
        <p:spPr>
          <a:xfrm>
            <a:off x="2978280" y="4213080"/>
            <a:ext cx="269640" cy="29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82514"/>
          <p:cNvSpPr/>
          <p:nvPr/>
        </p:nvSpPr>
        <p:spPr>
          <a:xfrm>
            <a:off x="4894200" y="4213080"/>
            <a:ext cx="271440" cy="29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82514"/>
          <p:cNvSpPr/>
          <p:nvPr/>
        </p:nvSpPr>
        <p:spPr>
          <a:xfrm>
            <a:off x="860400" y="5213520"/>
            <a:ext cx="27000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82514"/>
          <p:cNvSpPr/>
          <p:nvPr/>
        </p:nvSpPr>
        <p:spPr>
          <a:xfrm>
            <a:off x="2222640" y="5213520"/>
            <a:ext cx="26964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82514"/>
          <p:cNvSpPr/>
          <p:nvPr/>
        </p:nvSpPr>
        <p:spPr>
          <a:xfrm>
            <a:off x="3349800" y="5213520"/>
            <a:ext cx="27144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82514"/>
          <p:cNvSpPr/>
          <p:nvPr/>
        </p:nvSpPr>
        <p:spPr>
          <a:xfrm>
            <a:off x="4543560" y="5213520"/>
            <a:ext cx="269640" cy="29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82514"/>
          <p:cNvSpPr/>
          <p:nvPr/>
        </p:nvSpPr>
        <p:spPr>
          <a:xfrm>
            <a:off x="987480" y="4702320"/>
            <a:ext cx="271440" cy="29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12"/>
          <p:cNvSpPr/>
          <p:nvPr/>
        </p:nvSpPr>
        <p:spPr>
          <a:xfrm>
            <a:off x="1289160" y="417816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13"/>
          <p:cNvSpPr/>
          <p:nvPr/>
        </p:nvSpPr>
        <p:spPr>
          <a:xfrm>
            <a:off x="2892600" y="4173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14"/>
          <p:cNvSpPr/>
          <p:nvPr/>
        </p:nvSpPr>
        <p:spPr>
          <a:xfrm>
            <a:off x="4808520" y="41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16"/>
          <p:cNvSpPr/>
          <p:nvPr/>
        </p:nvSpPr>
        <p:spPr>
          <a:xfrm>
            <a:off x="795240" y="517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17"/>
          <p:cNvSpPr/>
          <p:nvPr/>
        </p:nvSpPr>
        <p:spPr>
          <a:xfrm>
            <a:off x="2160720" y="517860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19"/>
          <p:cNvSpPr/>
          <p:nvPr/>
        </p:nvSpPr>
        <p:spPr>
          <a:xfrm>
            <a:off x="3317760" y="5086440"/>
            <a:ext cx="2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21"/>
          <p:cNvSpPr/>
          <p:nvPr/>
        </p:nvSpPr>
        <p:spPr>
          <a:xfrm>
            <a:off x="4473720" y="518148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矩形 15"/>
          <p:cNvSpPr/>
          <p:nvPr/>
        </p:nvSpPr>
        <p:spPr>
          <a:xfrm>
            <a:off x="2055960" y="1728720"/>
            <a:ext cx="92232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矩形 18"/>
          <p:cNvSpPr/>
          <p:nvPr/>
        </p:nvSpPr>
        <p:spPr>
          <a:xfrm>
            <a:off x="4052880" y="1728720"/>
            <a:ext cx="29376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矩形 20"/>
          <p:cNvSpPr/>
          <p:nvPr/>
        </p:nvSpPr>
        <p:spPr>
          <a:xfrm>
            <a:off x="4861080" y="1728720"/>
            <a:ext cx="2934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矩形 22"/>
          <p:cNvSpPr/>
          <p:nvPr/>
        </p:nvSpPr>
        <p:spPr>
          <a:xfrm>
            <a:off x="582480" y="2130480"/>
            <a:ext cx="11066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矩形 23"/>
          <p:cNvSpPr/>
          <p:nvPr/>
        </p:nvSpPr>
        <p:spPr>
          <a:xfrm>
            <a:off x="4737240" y="2109960"/>
            <a:ext cx="115884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矩形 24"/>
          <p:cNvSpPr/>
          <p:nvPr/>
        </p:nvSpPr>
        <p:spPr>
          <a:xfrm>
            <a:off x="4737240" y="2671920"/>
            <a:ext cx="1236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矩形 25"/>
          <p:cNvSpPr/>
          <p:nvPr/>
        </p:nvSpPr>
        <p:spPr>
          <a:xfrm>
            <a:off x="6705720" y="2671920"/>
            <a:ext cx="117144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26"/>
          <p:cNvSpPr/>
          <p:nvPr/>
        </p:nvSpPr>
        <p:spPr>
          <a:xfrm>
            <a:off x="5086440" y="3159000"/>
            <a:ext cx="12254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64"/>
          <p:cNvSpPr/>
          <p:nvPr/>
        </p:nvSpPr>
        <p:spPr>
          <a:xfrm>
            <a:off x="365040" y="92160"/>
            <a:ext cx="2873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课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 txBox="1"/>
          <p:nvPr/>
        </p:nvSpPr>
        <p:spPr>
          <a:xfrm>
            <a:off x="412920" y="982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在（      ）里填出正确的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只螃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腿，是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6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是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是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3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6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7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只螃蟹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条腿，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2"/>
          <p:cNvGrpSpPr/>
          <p:nvPr/>
        </p:nvGrpSpPr>
        <p:grpSpPr>
          <a:xfrm>
            <a:off x="20520" y="79200"/>
            <a:ext cx="3481560" cy="527400"/>
            <a:chOff x="20520" y="79200"/>
            <a:chExt cx="3481560" cy="527400"/>
          </a:xfrm>
        </p:grpSpPr>
        <p:pic>
          <p:nvPicPr>
            <p:cNvPr id="131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3960" y="79200"/>
              <a:ext cx="3318120" cy="52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5" name="组合 4"/>
            <p:cNvGrpSpPr/>
            <p:nvPr/>
          </p:nvGrpSpPr>
          <p:grpSpPr>
            <a:xfrm>
              <a:off x="20520" y="174240"/>
              <a:ext cx="462240" cy="275040"/>
              <a:chOff x="20520" y="174240"/>
              <a:chExt cx="462240" cy="275040"/>
            </a:xfrm>
          </p:grpSpPr>
          <p:sp>
            <p:nvSpPr>
              <p:cNvPr id="1316" name="椭圆 35"/>
              <p:cNvSpPr/>
              <p:nvPr/>
            </p:nvSpPr>
            <p:spPr>
              <a:xfrm rot="16200000">
                <a:off x="269640" y="33732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7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040" y="295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椭圆 37"/>
              <p:cNvSpPr/>
              <p:nvPr/>
            </p:nvSpPr>
            <p:spPr>
              <a:xfrm rot="16200000">
                <a:off x="269640" y="208440"/>
                <a:ext cx="10080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9" name="椭圆 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040" y="1879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0" name="圆角矩形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10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1" name="圆角矩形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2836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2" name="圆角矩形 45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0088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3" name="圆角矩形 48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7424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24" name="Rectangle 64"/>
          <p:cNvSpPr/>
          <p:nvPr/>
        </p:nvSpPr>
        <p:spPr>
          <a:xfrm>
            <a:off x="646200" y="1764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矩形 22"/>
          <p:cNvSpPr/>
          <p:nvPr/>
        </p:nvSpPr>
        <p:spPr>
          <a:xfrm>
            <a:off x="4406760" y="1549440"/>
            <a:ext cx="395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1"/>
          <p:cNvSpPr/>
          <p:nvPr/>
        </p:nvSpPr>
        <p:spPr>
          <a:xfrm>
            <a:off x="2619360" y="1981080"/>
            <a:ext cx="39528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矩形 3"/>
          <p:cNvSpPr/>
          <p:nvPr/>
        </p:nvSpPr>
        <p:spPr>
          <a:xfrm>
            <a:off x="5708520" y="2009880"/>
            <a:ext cx="3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矩形 7"/>
          <p:cNvSpPr/>
          <p:nvPr/>
        </p:nvSpPr>
        <p:spPr>
          <a:xfrm>
            <a:off x="2619360" y="2508120"/>
            <a:ext cx="395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矩形 8"/>
          <p:cNvSpPr/>
          <p:nvPr/>
        </p:nvSpPr>
        <p:spPr>
          <a:xfrm>
            <a:off x="5708520" y="2513160"/>
            <a:ext cx="395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矩形 9"/>
          <p:cNvSpPr/>
          <p:nvPr/>
        </p:nvSpPr>
        <p:spPr>
          <a:xfrm>
            <a:off x="2619360" y="2962440"/>
            <a:ext cx="3952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矩形 10"/>
          <p:cNvSpPr/>
          <p:nvPr/>
        </p:nvSpPr>
        <p:spPr>
          <a:xfrm>
            <a:off x="5313240" y="2962440"/>
            <a:ext cx="3952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11"/>
          <p:cNvSpPr/>
          <p:nvPr/>
        </p:nvSpPr>
        <p:spPr>
          <a:xfrm>
            <a:off x="7012080" y="2962440"/>
            <a:ext cx="3952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12"/>
          <p:cNvSpPr/>
          <p:nvPr/>
        </p:nvSpPr>
        <p:spPr>
          <a:xfrm>
            <a:off x="2619360" y="3409920"/>
            <a:ext cx="4827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13"/>
          <p:cNvSpPr/>
          <p:nvPr/>
        </p:nvSpPr>
        <p:spPr>
          <a:xfrm>
            <a:off x="5313240" y="3443400"/>
            <a:ext cx="39528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14"/>
          <p:cNvSpPr/>
          <p:nvPr/>
        </p:nvSpPr>
        <p:spPr>
          <a:xfrm>
            <a:off x="7012080" y="3487680"/>
            <a:ext cx="3952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5"/>
          <p:cNvSpPr/>
          <p:nvPr/>
        </p:nvSpPr>
        <p:spPr>
          <a:xfrm>
            <a:off x="2619360" y="3914640"/>
            <a:ext cx="39528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6"/>
          <p:cNvSpPr/>
          <p:nvPr/>
        </p:nvSpPr>
        <p:spPr>
          <a:xfrm>
            <a:off x="5313240" y="3936960"/>
            <a:ext cx="4730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7"/>
          <p:cNvSpPr/>
          <p:nvPr/>
        </p:nvSpPr>
        <p:spPr>
          <a:xfrm>
            <a:off x="7012080" y="3914640"/>
            <a:ext cx="395280" cy="3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8"/>
          <p:cNvSpPr/>
          <p:nvPr/>
        </p:nvSpPr>
        <p:spPr>
          <a:xfrm>
            <a:off x="2619360" y="4440240"/>
            <a:ext cx="39528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9"/>
          <p:cNvSpPr/>
          <p:nvPr/>
        </p:nvSpPr>
        <p:spPr>
          <a:xfrm>
            <a:off x="5313240" y="4406760"/>
            <a:ext cx="39528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20"/>
          <p:cNvSpPr/>
          <p:nvPr/>
        </p:nvSpPr>
        <p:spPr>
          <a:xfrm>
            <a:off x="7012080" y="4440240"/>
            <a:ext cx="39528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21"/>
          <p:cNvSpPr/>
          <p:nvPr/>
        </p:nvSpPr>
        <p:spPr>
          <a:xfrm>
            <a:off x="2619360" y="4943520"/>
            <a:ext cx="395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23"/>
          <p:cNvSpPr/>
          <p:nvPr/>
        </p:nvSpPr>
        <p:spPr>
          <a:xfrm>
            <a:off x="5313240" y="4911840"/>
            <a:ext cx="395280" cy="4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24"/>
          <p:cNvSpPr/>
          <p:nvPr/>
        </p:nvSpPr>
        <p:spPr>
          <a:xfrm>
            <a:off x="7012080" y="4943520"/>
            <a:ext cx="3952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0:38:00Z</dcterms:created>
  <dc:creator/>
  <dc:description/>
  <dc:language>en-US</dc:language>
  <cp:lastModifiedBy>万润仪器贸易公司</cp:lastModifiedBy>
  <dcterms:modified xsi:type="dcterms:W3CDTF">2020-08-21T00:40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